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03932"/>
        <c:axId val="25148888"/>
      </c:barChart>
      <c:catAx>
        <c:axId val="73703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48888"/>
        <c:crosses val="autoZero"/>
        <c:auto val="1"/>
        <c:lblAlgn val="ctr"/>
        <c:lblOffset val="100"/>
        <c:noMultiLvlLbl val="0"/>
      </c:catAx>
      <c:valAx>
        <c:axId val="25148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03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978-959E-4F97-BD38-37BBA6FA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1EA-30CB-4A56-9623-0396DA9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9B3-1E38-4306-BB77-2EF02D38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DB7-D278-48EF-9D5E-4E4740B3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2E7-4D40-46F8-A5CE-2478DDDF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81E-58B7-4425-9FC5-7A6315A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EA4-0ACC-4B79-99D2-A753F15E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C61-1A0C-43DF-8914-07068C9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D8D-831E-47B8-A0ED-4B5527A4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6C7-41DF-409E-8995-F7D2810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C75-8737-42DE-9828-96EE949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FE1-41AD-4571-BE31-E6AC92F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8974F-95F3-46EB-AFB7-ED0DBD1E91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