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6216835"/>
        <c:axId val="10012308"/>
      </c:barChart>
      <c:catAx>
        <c:axId val="3621683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012308"/>
        <c:crosses val="autoZero"/>
        <c:auto val="1"/>
        <c:lblAlgn val="ctr"/>
        <c:lblOffset val="100"/>
        <c:noMultiLvlLbl val="0"/>
      </c:catAx>
      <c:valAx>
        <c:axId val="1001230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21683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CB83D-052C-499B-AFAA-CC144AC0B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AB304-3B5D-4D32-A0F4-07E9810A6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925D5-E9C9-4CF4-9378-D192BFCC3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8F829-79AE-40B6-A8FC-13EE6D3B1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3EFED-FC25-400B-9E24-5D9320444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55AF3-86FF-43D6-AD75-D2E66E070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493D9-0B1C-4876-A8A2-E98380E6D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A010E-5313-43D6-98B6-3B8A6EED7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35A37-98E6-4586-8A2E-A17E9A036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C0186-495B-4AD3-917E-A5A71ADFA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7A57A-E645-4F8D-90DE-B1291A3E6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BAF11-3455-448B-B809-299B70DA3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8C1450-2B27-4931-97E2-E308313053F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