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27520"/>
        <c:axId val="31229332"/>
      </c:barChart>
      <c:catAx>
        <c:axId val="45727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29332"/>
        <c:crosses val="autoZero"/>
        <c:auto val="1"/>
        <c:lblAlgn val="ctr"/>
        <c:lblOffset val="100"/>
        <c:noMultiLvlLbl val="0"/>
      </c:catAx>
      <c:valAx>
        <c:axId val="3122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27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F33-F601-43BC-838A-113870E2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FB4-FB5F-4D9C-B0BB-4D1B59D7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C48-E8A8-4630-A3C5-D7A0BA57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E0D-C2CF-4A10-8D12-DB9391DC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C13-CC9E-4032-95E9-B267359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1C0-5885-489A-896D-FDC71C1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C18-460C-472E-8150-CFA6277B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76C-D36E-4B93-98E4-956C927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520-17B1-469F-926F-6A5EDA6C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360-AE05-4DE2-88B8-6A4431D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DD3-8903-4772-ADA5-6448EAC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D88-64A5-45B0-8439-ACDA54F2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4E68-CF04-4EE1-AB59-B42681E308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