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410355"/>
        <c:axId val="65515935"/>
      </c:barChart>
      <c:catAx>
        <c:axId val="83410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15935"/>
        <c:crosses val="autoZero"/>
        <c:auto val="1"/>
        <c:lblAlgn val="ctr"/>
        <c:lblOffset val="100"/>
        <c:noMultiLvlLbl val="0"/>
      </c:catAx>
      <c:valAx>
        <c:axId val="65515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10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7448-71FE-4207-8752-5A412420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210-9BA7-4D5D-949A-86B30C09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FEF-D769-4591-9BEF-38419A43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8330-A4F3-4154-BDF7-FCABC027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E5C-3F3F-49EB-91E0-89352E2E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FB1-8102-495F-9828-0A6CFFF3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12B-C8F1-48FF-B10A-3B93A2C9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5583-7437-4728-B6A3-36F4E7A6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8F15-2041-458F-A20A-61C9392D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CD8A-FEE0-4422-B292-17FF122B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DFE3-CD45-4AD4-9DFF-FC632B27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184-D97C-47DF-80B6-56F1943F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1D769-4EF7-4902-9AD7-8DE635EA94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