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16554"/>
        <c:axId val="64415093"/>
      </c:barChart>
      <c:catAx>
        <c:axId val="98116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15093"/>
        <c:crosses val="autoZero"/>
        <c:auto val="1"/>
        <c:lblAlgn val="ctr"/>
        <c:lblOffset val="100"/>
        <c:noMultiLvlLbl val="0"/>
      </c:catAx>
      <c:valAx>
        <c:axId val="64415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16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BA8-4AA1-48D6-B935-506840F0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BA0-AB23-4AA4-AE56-EB658F8F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DAB-7ACC-4E66-98F7-402E180E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015-DBF5-44D1-A97D-1760C09B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D7B-1499-4E25-AD7B-B332263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EE9-F676-445A-B249-67E0B5A4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65A-9A71-4892-AA49-79EDE5A1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1E8-3393-4960-B524-53192076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66B-4AEB-453A-B394-604E49C7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7A4-5D5F-4FC3-A6F7-603B7300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46C-738B-4877-847E-1F553F5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053-871F-4C12-BADC-11AACB8E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6A574-4AEF-4230-BF38-D252BABD56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