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64485"/>
        <c:axId val="15618807"/>
      </c:barChart>
      <c:catAx>
        <c:axId val="40864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18807"/>
        <c:crosses val="autoZero"/>
        <c:auto val="1"/>
        <c:lblAlgn val="ctr"/>
        <c:lblOffset val="100"/>
        <c:noMultiLvlLbl val="0"/>
      </c:catAx>
      <c:valAx>
        <c:axId val="15618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64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6D1-16F3-4E18-8A98-D8DAA8A0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551-89BF-4C91-84AD-F8B204A9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884-D959-484D-AED7-91BCE70E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234-95EE-4E8F-97C9-87F132E2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22D-7C38-41E6-A859-D224A7A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52B-BF29-40A7-B44D-164C571C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45C-DDCE-456D-8ED2-1F349B8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A10-73B3-40FE-B87B-28405709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956-3B82-4C98-9292-3CE24CE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889-4A61-44FB-9C4F-B858213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214-704B-4831-A6B1-7BA913E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0E9-6F12-4B67-A762-ECE6A2B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F2F60-7D1E-430F-BC02-269D72F08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