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55232"/>
        <c:axId val="42891176"/>
      </c:barChart>
      <c:catAx>
        <c:axId val="40255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91176"/>
        <c:crosses val="autoZero"/>
        <c:auto val="1"/>
        <c:lblAlgn val="ctr"/>
        <c:lblOffset val="100"/>
        <c:noMultiLvlLbl val="0"/>
      </c:catAx>
      <c:valAx>
        <c:axId val="42891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55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73F-2069-4464-B6E7-6194DBD5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68A-DF4F-4975-B045-EB4A5690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68D-A989-46FD-A7D1-9660CE1B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96E-B6E0-404A-9B3F-D239852F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2A0-6FF3-45CA-AADB-14830C72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642-49A1-4C78-BFAA-D94F6F03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6C8-DE06-4BD5-A7B4-D8DF187C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FB9-EF05-4321-8EC0-D48B22AF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F9D-657F-441F-B53D-DD5D8996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9D8-C0EB-4CCE-989B-EC2CDB05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E75-A4EE-440B-B4B1-8B85A28C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BCE-F9BB-45E5-A446-B90C2C40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D3EB1-6D79-457F-95D5-F55298EC46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