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69262"/>
        <c:axId val="50638041"/>
      </c:barChart>
      <c:catAx>
        <c:axId val="29769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38041"/>
        <c:crosses val="autoZero"/>
        <c:auto val="1"/>
        <c:lblAlgn val="ctr"/>
        <c:lblOffset val="100"/>
        <c:noMultiLvlLbl val="0"/>
      </c:catAx>
      <c:valAx>
        <c:axId val="50638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69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6B9-1A27-46AE-876E-ADB51EDA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6BC-C90A-4FE0-9373-249D4C9E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C13-4715-44EE-A12D-4CC6FF5F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36F-564B-4067-A6D3-3EA406B2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936-0EB9-45F6-8597-E5A3C057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430-DF4B-4B3A-ABE2-999F4BFF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3D1-E6F5-4C32-9B94-67A1D82B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E2A-1600-46F0-AB2E-7A31ECEC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EA1-A17E-4468-8D4B-167091BB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E44-3EF8-4773-AC33-24F9C114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590-A2DE-4749-B98F-6FCD6419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6B6-CC2C-41F1-B940-9CCBA700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58B1F-15AF-4939-B53D-3AC010F948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