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40915"/>
        <c:axId val="32066810"/>
      </c:barChart>
      <c:catAx>
        <c:axId val="49140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66810"/>
        <c:crosses val="autoZero"/>
        <c:auto val="1"/>
        <c:lblAlgn val="ctr"/>
        <c:lblOffset val="100"/>
        <c:noMultiLvlLbl val="0"/>
      </c:catAx>
      <c:valAx>
        <c:axId val="32066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40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DA0-A707-4E57-8129-00FB44FF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FB3-8215-46E9-85D6-009FA568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861-52B2-45C0-99C0-843F1237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A5F-C2A1-4E81-B1F5-35DBB56D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DA9-DD7E-43F4-A918-7DF9324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C67-5EAC-479F-B9B8-928131D7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19B-A7BB-4273-A5C5-8DA84EF7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9BB-BBB2-4B8B-9ECB-CDB16A93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E83-2B5A-4A46-BD95-6EEE68F2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058-8505-46D2-A742-6ACE95E8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B3E-AB11-4377-9C43-181A7F0D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3A6-78CC-445C-A110-9843F412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C88EC-94AE-41FF-A853-A925CBD12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