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07611"/>
        <c:axId val="20638113"/>
      </c:barChart>
      <c:catAx>
        <c:axId val="777076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38113"/>
        <c:crosses val="autoZero"/>
        <c:auto val="1"/>
        <c:lblAlgn val="ctr"/>
        <c:lblOffset val="100"/>
        <c:noMultiLvlLbl val="0"/>
      </c:catAx>
      <c:valAx>
        <c:axId val="20638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076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32A9-AE78-4B68-8CAE-7465FE5D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039C-3FE7-4D1D-AC4F-B3671598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F907-1022-49EF-88EC-CC6741CF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FA88-2DEC-41C3-B407-EA8A3BCF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D17A-B40F-4902-B7DD-05513CCC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AAA-5D8F-457C-A0E9-EAF55284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2B6-1E08-44FA-89ED-4D9831B7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E00-9B10-4492-B762-CDB0304D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015-FCBA-4EED-86FC-0EC7AB2F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361-8AD7-47C0-A4EE-EEC6F838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674-EF31-4F17-A777-80C406F7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878-6762-4AC5-8372-FE0B5AFA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DA473-23C6-40CC-9604-2D72CD6B3B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