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444034"/>
        <c:axId val="24215409"/>
      </c:barChart>
      <c:catAx>
        <c:axId val="244440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15409"/>
        <c:crosses val="autoZero"/>
        <c:auto val="1"/>
        <c:lblAlgn val="ctr"/>
        <c:lblOffset val="100"/>
        <c:noMultiLvlLbl val="0"/>
      </c:catAx>
      <c:valAx>
        <c:axId val="242154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4440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D443-DC0C-4389-9718-DB4423FDE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E189-EE3C-4252-B943-527B8484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FC20-B097-4777-AC78-01D8F88D0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347E-B8D9-4B43-A6CA-72568ECB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7375-0C12-4DA5-B55C-71B6B9DF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E116-4F36-4F0F-B353-461FDBC3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B907-486A-41A6-A07C-421DCDC7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7C96-B79E-4040-8FE0-32EDFB1C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1C88-AA96-4443-9F06-FF4E5B51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59F2-0DDC-4631-B757-0DA6DFA1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D17F-DFE9-4B51-97E5-8B21DD53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4E62-7065-47B2-B83E-196A694B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D6E87-0194-42F9-B10B-0A71A37916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