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62630"/>
        <c:axId val="96951674"/>
      </c:barChart>
      <c:catAx>
        <c:axId val="89762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1674"/>
        <c:crosses val="autoZero"/>
        <c:auto val="1"/>
        <c:lblAlgn val="ctr"/>
        <c:lblOffset val="100"/>
        <c:noMultiLvlLbl val="0"/>
      </c:catAx>
      <c:valAx>
        <c:axId val="96951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62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FCE-437B-4BE8-9CA7-1B6940DF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F9A-7E53-4B63-A0B9-EBCC058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328-61D9-41D5-95A5-99242D46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116-5741-483B-9700-ED5D39D9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4BB-1C09-4EF3-927E-6524A3AF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1B1-1BB6-4893-8655-C9CB9A7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F57-310D-4DBE-A784-24CB5433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1E3-9400-4F7B-9181-625BB29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65B-E52C-43A1-AE26-8C554B4B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F76-8A96-4748-A947-F6359A4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5BD-E2ED-4D6F-A0A4-22B023C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C23-694B-4D08-A618-9A7E8009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33FFA-DE77-4814-BE8E-69757C4FF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