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63067"/>
        <c:axId val="27837716"/>
      </c:barChart>
      <c:catAx>
        <c:axId val="30663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37716"/>
        <c:crosses val="autoZero"/>
        <c:auto val="1"/>
        <c:lblAlgn val="ctr"/>
        <c:lblOffset val="100"/>
        <c:noMultiLvlLbl val="0"/>
      </c:catAx>
      <c:valAx>
        <c:axId val="27837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63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E95-E70B-4F68-A9BD-A9FA6A5D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D92-B9F6-4C4F-9164-5A354A2C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C08-5F3F-4DC5-8716-9CCE7248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5BE-502D-47A5-9451-AFDDFF7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1C4-94B1-4595-B1F1-C33E2AF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61-E1A9-44CB-A5F3-EC8B1960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4E5-AA7D-46E3-A96B-3951FFF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E40-A49B-478C-A754-741043B4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DB2-7CF1-4CF9-A54C-BB719E92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161-A1FF-419E-B522-89CDD29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EBC-CC5A-4DBF-83B3-ED9EC32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CA0-D932-4A62-9974-5B052BDC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365D0-F82E-4C96-A5D4-E93841439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