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05815"/>
        <c:axId val="21734770"/>
      </c:barChart>
      <c:catAx>
        <c:axId val="38605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34770"/>
        <c:crosses val="autoZero"/>
        <c:auto val="1"/>
        <c:lblAlgn val="ctr"/>
        <c:lblOffset val="100"/>
        <c:noMultiLvlLbl val="0"/>
      </c:catAx>
      <c:valAx>
        <c:axId val="21734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05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A16-126F-4B83-BE50-9470C92D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1CB-3697-450D-85D6-73BAE29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602-3929-4641-92FC-30E23BCB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7FA-C1FB-4D10-B123-168E2632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01E-C0C5-4E61-AEA6-DFB1F814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E6D-514F-4769-A5E7-2E646C9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3AA-E842-4A98-8ED4-AA7694DF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398-4FD5-4CEF-9B1F-44AB10CE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C79-D311-40FD-A819-048B7B0B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A9C-747B-48CB-9BE0-DCE5D02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FA0-0CC7-4E44-B702-515EDCDA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ED2-AFAC-4D7C-9CAF-B021BBD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5478D-B59A-4A4C-A110-FBF4F4DC70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