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71894"/>
        <c:axId val="21544245"/>
      </c:barChart>
      <c:catAx>
        <c:axId val="25671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44245"/>
        <c:crosses val="autoZero"/>
        <c:auto val="1"/>
        <c:lblAlgn val="ctr"/>
        <c:lblOffset val="100"/>
        <c:noMultiLvlLbl val="0"/>
      </c:catAx>
      <c:valAx>
        <c:axId val="21544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71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EE9-1AED-41CC-AC9E-98622B7C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5E8-3B4C-46C6-8749-F1FC5204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894-FDB0-4A62-8770-0BEC9BA4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B41-683D-4D52-906A-24778081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257-2A30-40DA-BE0F-1CBB8A73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022-0724-4469-9683-6B370E3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4F8-1E72-4426-BB58-F2D43D17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6F4-EE1C-4B33-9BAA-B89002C0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99F-43B3-4A26-8CE0-CA226AAA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2DB-95EF-4D9D-9797-3B1C529E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F7D-2240-40EC-A03F-550A4D1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051-5245-46E1-9B3D-6B433232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A8CE1-ACD1-418C-B0DA-00CC42E364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