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957609"/>
        <c:axId val="49145112"/>
      </c:barChart>
      <c:catAx>
        <c:axId val="319576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45112"/>
        <c:crosses val="autoZero"/>
        <c:auto val="1"/>
        <c:lblAlgn val="ctr"/>
        <c:lblOffset val="100"/>
        <c:noMultiLvlLbl val="0"/>
      </c:catAx>
      <c:valAx>
        <c:axId val="491451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576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A180-E6A1-40C0-AFC3-9C4116A3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ECF8-F97B-42D0-9CA7-6075B6AF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6187-7029-4429-8ED6-777FD153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F4A4-046F-460A-BEB7-06F232E3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086A-4B6A-4BB1-A26F-CEFF7598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90DD-A3C8-4F1C-81E3-E2F51645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18F6-7C13-404B-A682-144400AB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2CD6-4AA4-4F76-B403-8CAFE7E2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AA06-B511-4B89-B325-8B714F26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5629-7091-45D6-B2C3-DD02201C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6FA1-6E61-4F7A-A0C9-1C462325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F287-B97D-4499-9226-3CD4CAA0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C0132-CE2D-4558-8B23-D43A317C02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