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21313"/>
        <c:axId val="47699196"/>
      </c:barChart>
      <c:catAx>
        <c:axId val="46421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99196"/>
        <c:crosses val="autoZero"/>
        <c:auto val="1"/>
        <c:lblAlgn val="ctr"/>
        <c:lblOffset val="100"/>
        <c:noMultiLvlLbl val="0"/>
      </c:catAx>
      <c:valAx>
        <c:axId val="47699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21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E17-8445-4EC2-BF96-972D53C8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453-196B-419A-9576-1AD9FA12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7BE-5A7D-4EC0-8A40-CA10885D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DB2-8A04-4FD2-84E3-005B82E0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9D2-872D-417E-8783-F0F32566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83C-52AE-4CD7-AD0E-B8BDA283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878-E880-4105-9E21-C654C1F2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4DA-A381-4A8E-9D38-6E5281D5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B3F-A51F-40AC-894A-717BEC10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4D2-6BC2-4AEE-99EB-15465C67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CE5-38D9-4298-AEE6-E5A424FA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463-741F-4212-AD7C-39AE7402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83C11-B22D-4E25-870A-892AC2A2B4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