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56425"/>
        <c:axId val="26350580"/>
      </c:barChart>
      <c:catAx>
        <c:axId val="12156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50580"/>
        <c:crosses val="autoZero"/>
        <c:auto val="1"/>
        <c:lblAlgn val="ctr"/>
        <c:lblOffset val="100"/>
        <c:noMultiLvlLbl val="0"/>
      </c:catAx>
      <c:valAx>
        <c:axId val="26350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56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B80-2FFB-48C1-8751-6459E1DF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DF5-D4A6-4636-AB93-5472061F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778-501D-42FD-BF5F-B5FD4849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C87-15B8-4B83-885D-216DB24A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91B-3FE6-4035-84D2-1E5AA7A6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8E7-C28A-452C-A91C-58493C72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8B4-F9C5-4604-B5B1-A3ACBE3A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2F8-17F1-4A5F-A39A-7A5EB8E2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33A-0EE9-49F0-80ED-9384834C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0A0-8DB6-4BCD-A823-1D32B7E4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DA7-1558-4CC4-AA7C-4F17D37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667-8C3D-44D5-A483-131544A5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BC847-473D-4296-A372-172B046410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