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6888-DCDC-4B56-839F-7C3106F23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CA57-D337-42D7-AA9C-92D8B468D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31E0-2F71-410E-9FDE-0DA9C4279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F4B9-D1CF-4429-892B-EAFF179DA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95C8-610E-4DA9-ACC4-27757F414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4648-F4C4-40FF-B4B4-07DD113E4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1F6B-E677-4428-BAE1-FCE44636D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3367-E831-4401-9927-71E1B7FB2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E802-5047-498E-AADF-B72D2C432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4701-B3B2-425C-ABB9-33795C9D9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F4EF-2F1C-458A-BF7C-A2F3F070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61F3-BAF5-4ED0-A1BA-CEFBA4E0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A8A9A-1F18-4BAD-97E1-8AEA932AE0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257800" y="33526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agonal b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57800" y="335268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vots applied to other column pan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09680" y="3352680"/>
            <a:ext cx="7632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09680" y="3352680"/>
            <a:ext cx="304920" cy="304920"/>
          </a:xfrm>
          <a:custGeom>
            <a:avLst/>
            <a:gdLst/>
            <a:ahLst/>
            <a:rect l="l" t="t" r="r" b="b"/>
            <a:pathLst>
              <a:path w="192" h="192">
                <a:moveTo>
                  <a:pt x="0" y="192"/>
                </a:moveTo>
                <a:lnTo>
                  <a:pt x="0" y="0"/>
                </a:lnTo>
                <a:lnTo>
                  <a:pt x="192" y="192"/>
                </a:lnTo>
                <a:lnTo>
                  <a:pt x="0" y="19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7920" y="3505320"/>
            <a:ext cx="2819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447920" y="4648320"/>
            <a:ext cx="2819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3880" y="3505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81080" y="3505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895480" y="3505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00400" y="3505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05320" y="3505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09880" y="3505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038480" y="3505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66880" y="3505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752480" y="3505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09680" y="3352680"/>
            <a:ext cx="2057400" cy="304920"/>
          </a:xfrm>
          <a:custGeom>
            <a:avLst/>
            <a:gdLst/>
            <a:ahLst/>
            <a:rect l="l" t="t" r="r" b="b"/>
            <a:pathLst>
              <a:path w="1296" h="192">
                <a:moveTo>
                  <a:pt x="0" y="0"/>
                </a:moveTo>
                <a:lnTo>
                  <a:pt x="1296" y="0"/>
                </a:lnTo>
                <a:lnTo>
                  <a:pt x="1296" y="192"/>
                </a:lnTo>
                <a:lnTo>
                  <a:pt x="192" y="192"/>
                </a:lnTo>
                <a:lnTo>
                  <a:pt x="0" y="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76440" y="380988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71720" y="281952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3352680"/>
            <a:ext cx="3809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 block row of 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pdtrs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09680" y="3352680"/>
            <a:ext cx="7632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09680" y="3352680"/>
            <a:ext cx="304920" cy="304920"/>
          </a:xfrm>
          <a:custGeom>
            <a:avLst/>
            <a:gdLst/>
            <a:ahLst/>
            <a:rect l="l" t="t" r="r" b="b"/>
            <a:pathLst>
              <a:path w="192" h="192">
                <a:moveTo>
                  <a:pt x="0" y="192"/>
                </a:moveTo>
                <a:lnTo>
                  <a:pt x="0" y="0"/>
                </a:lnTo>
                <a:lnTo>
                  <a:pt x="192" y="192"/>
                </a:lnTo>
                <a:lnTo>
                  <a:pt x="0" y="19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209680" y="3352680"/>
            <a:ext cx="2057400" cy="304920"/>
          </a:xfrm>
          <a:custGeom>
            <a:avLst/>
            <a:gdLst/>
            <a:ahLst/>
            <a:rect l="l" t="t" r="r" b="b"/>
            <a:pathLst>
              <a:path w="1296" h="192">
                <a:moveTo>
                  <a:pt x="0" y="0"/>
                </a:moveTo>
                <a:lnTo>
                  <a:pt x="1296" y="0"/>
                </a:lnTo>
                <a:lnTo>
                  <a:pt x="1296" y="192"/>
                </a:lnTo>
                <a:lnTo>
                  <a:pt x="192" y="192"/>
                </a:lnTo>
                <a:lnTo>
                  <a:pt x="0" y="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257800" y="3352680"/>
            <a:ext cx="3581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railing sub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pdgem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09680" y="3352680"/>
            <a:ext cx="7632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09680" y="3352680"/>
            <a:ext cx="304920" cy="304920"/>
          </a:xfrm>
          <a:custGeom>
            <a:avLst/>
            <a:gdLst/>
            <a:ahLst/>
            <a:rect l="l" t="t" r="r" b="b"/>
            <a:pathLst>
              <a:path w="192" h="192">
                <a:moveTo>
                  <a:pt x="0" y="192"/>
                </a:moveTo>
                <a:lnTo>
                  <a:pt x="0" y="0"/>
                </a:lnTo>
                <a:lnTo>
                  <a:pt x="192" y="192"/>
                </a:lnTo>
                <a:lnTo>
                  <a:pt x="0" y="19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514600" y="3657600"/>
            <a:ext cx="1752480" cy="1523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5257800" y="3124080"/>
            <a:ext cx="762120" cy="685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19920" y="3124080"/>
            <a:ext cx="761760" cy="685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781680" y="3124080"/>
            <a:ext cx="762120" cy="685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543800" y="3124080"/>
            <a:ext cx="762120" cy="685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257800" y="3809880"/>
            <a:ext cx="762120" cy="6858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19920" y="3809880"/>
            <a:ext cx="761760" cy="685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781680" y="3809880"/>
            <a:ext cx="762120" cy="685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543800" y="3809880"/>
            <a:ext cx="762120" cy="685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486400" y="3886200"/>
            <a:ext cx="228600" cy="609480"/>
          </a:xfrm>
          <a:prstGeom prst="rect">
            <a:avLst/>
          </a:prstGeom>
          <a:solidFill>
            <a:srgbClr val="ff00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486400" y="3962520"/>
            <a:ext cx="228600" cy="22860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715000" y="3962520"/>
            <a:ext cx="304920" cy="22860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4120" y="3962520"/>
            <a:ext cx="152280" cy="22860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715000" y="342900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239960" y="39625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478200" y="39625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02240" y="3429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240320" y="3429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002440" y="3429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002080" y="39625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86400" y="3276720"/>
            <a:ext cx="228600" cy="533160"/>
          </a:xfrm>
          <a:prstGeom prst="rect">
            <a:avLst/>
          </a:prstGeom>
          <a:solidFill>
            <a:srgbClr val="ff00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3962520"/>
            <a:ext cx="609480" cy="22860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696080" y="3962520"/>
            <a:ext cx="609840" cy="22860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934320" y="3962520"/>
            <a:ext cx="609480" cy="22860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09680" y="3352680"/>
            <a:ext cx="7632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209680" y="3352680"/>
            <a:ext cx="2057400" cy="304920"/>
          </a:xfrm>
          <a:custGeom>
            <a:avLst/>
            <a:gdLst/>
            <a:ahLst/>
            <a:rect l="l" t="t" r="r" b="b"/>
            <a:pathLst>
              <a:path w="1296" h="192">
                <a:moveTo>
                  <a:pt x="0" y="0"/>
                </a:moveTo>
                <a:lnTo>
                  <a:pt x="1296" y="0"/>
                </a:lnTo>
                <a:lnTo>
                  <a:pt x="1296" y="192"/>
                </a:lnTo>
                <a:lnTo>
                  <a:pt x="192" y="192"/>
                </a:lnTo>
                <a:lnTo>
                  <a:pt x="0" y="0"/>
                </a:lnTo>
                <a:close/>
              </a:path>
            </a:pathLst>
          </a:custGeom>
          <a:solidFill>
            <a:srgbClr val="cc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1309320" y="2109960"/>
            <a:ext cx="707868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715000" y="419112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400800" y="419112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162920" y="419112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924680" y="4191120"/>
            <a:ext cx="27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p matrix to 2x4 gr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447920" y="2133720"/>
            <a:ext cx="0" cy="342900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133720" y="2133720"/>
            <a:ext cx="5715000" cy="3733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133720" y="2133720"/>
            <a:ext cx="2895480" cy="41907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128680" y="2128680"/>
            <a:ext cx="1444680" cy="419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029200" y="2133720"/>
            <a:ext cx="1447920" cy="41907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2133720"/>
            <a:ext cx="685800" cy="41907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343400" y="2133720"/>
            <a:ext cx="685800" cy="41907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791320" y="2133720"/>
            <a:ext cx="685800" cy="41907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162920" y="2133720"/>
            <a:ext cx="685800" cy="41907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477120" y="2133720"/>
            <a:ext cx="685800" cy="41907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029200" y="2133720"/>
            <a:ext cx="762120" cy="685800"/>
          </a:xfrm>
          <a:prstGeom prst="rect">
            <a:avLst/>
          </a:prstGeom>
          <a:solidFill>
            <a:srgbClr val="ff99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133720" y="2819520"/>
            <a:ext cx="5715000" cy="228600"/>
          </a:xfrm>
          <a:prstGeom prst="rect">
            <a:avLst/>
          </a:prstGeom>
          <a:solidFill>
            <a:srgbClr val="cc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581280" y="4419720"/>
            <a:ext cx="2210040" cy="228600"/>
          </a:xfrm>
          <a:prstGeom prst="rect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791320" y="3581280"/>
            <a:ext cx="685800" cy="609840"/>
          </a:xfrm>
          <a:prstGeom prst="rect">
            <a:avLst/>
          </a:prstGeom>
          <a:solidFill>
            <a:srgbClr val="ff99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133720" y="4191120"/>
            <a:ext cx="5715000" cy="228600"/>
          </a:xfrm>
          <a:prstGeom prst="rect">
            <a:avLst/>
          </a:prstGeom>
          <a:solidFill>
            <a:srgbClr val="cc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133720" y="4419720"/>
            <a:ext cx="761760" cy="228600"/>
          </a:xfrm>
          <a:prstGeom prst="rect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95480" y="3048120"/>
            <a:ext cx="2133720" cy="228600"/>
          </a:xfrm>
          <a:prstGeom prst="rect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77120" y="4952880"/>
            <a:ext cx="685800" cy="609840"/>
          </a:xfrm>
          <a:prstGeom prst="rect">
            <a:avLst/>
          </a:prstGeom>
          <a:solidFill>
            <a:srgbClr val="ff99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133720" y="5562720"/>
            <a:ext cx="5715000" cy="228600"/>
          </a:xfrm>
          <a:prstGeom prst="rect">
            <a:avLst/>
          </a:prstGeom>
          <a:solidFill>
            <a:srgbClr val="cc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133720" y="5791320"/>
            <a:ext cx="1447560" cy="228600"/>
          </a:xfrm>
          <a:prstGeom prst="rect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343400" y="5791320"/>
            <a:ext cx="2133720" cy="228600"/>
          </a:xfrm>
          <a:prstGeom prst="rect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52280" y="2209680"/>
            <a:ext cx="914400" cy="762120"/>
          </a:xfrm>
          <a:prstGeom prst="rect">
            <a:avLst/>
          </a:prstGeom>
          <a:solidFill>
            <a:srgbClr val="ff99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280" y="3581280"/>
            <a:ext cx="1143000" cy="304920"/>
          </a:xfrm>
          <a:prstGeom prst="rect">
            <a:avLst/>
          </a:prstGeom>
          <a:solidFill>
            <a:srgbClr val="cc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adc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52280" y="4038480"/>
            <a:ext cx="762120" cy="304920"/>
          </a:xfrm>
          <a:prstGeom prst="rect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133720" y="2438280"/>
            <a:ext cx="76176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133720" y="2666880"/>
            <a:ext cx="76176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029200" y="2438280"/>
            <a:ext cx="76212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029200" y="2666880"/>
            <a:ext cx="76212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581280" y="403848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895480" y="243828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581280" y="380988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91320" y="3048120"/>
            <a:ext cx="2057400" cy="228600"/>
          </a:xfrm>
          <a:prstGeom prst="rect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791320" y="3809880"/>
            <a:ext cx="68580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791320" y="4038480"/>
            <a:ext cx="68580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343400" y="51055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477120" y="5105520"/>
            <a:ext cx="68580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343400" y="52578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477120" y="5257800"/>
            <a:ext cx="68580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477120" y="4419720"/>
            <a:ext cx="1371600" cy="228600"/>
          </a:xfrm>
          <a:prstGeom prst="rect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162920" y="5791320"/>
            <a:ext cx="685800" cy="228600"/>
          </a:xfrm>
          <a:prstGeom prst="rect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895480" y="3809880"/>
            <a:ext cx="68580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95480" y="4038480"/>
            <a:ext cx="68580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81280" y="5257800"/>
            <a:ext cx="76212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>
            <a:off x="2895120" y="2666520"/>
            <a:ext cx="2134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2133720" y="3276720"/>
            <a:ext cx="5715000" cy="304560"/>
          </a:xfrm>
          <a:prstGeom prst="rect">
            <a:avLst/>
          </a:prstGeom>
          <a:solidFill>
            <a:srgbClr val="9900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133720" y="4648320"/>
            <a:ext cx="5715000" cy="304560"/>
          </a:xfrm>
          <a:prstGeom prst="rect">
            <a:avLst/>
          </a:prstGeom>
          <a:solidFill>
            <a:srgbClr val="9900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133720" y="6019920"/>
            <a:ext cx="5715000" cy="304560"/>
          </a:xfrm>
          <a:prstGeom prst="rect">
            <a:avLst/>
          </a:prstGeom>
          <a:solidFill>
            <a:srgbClr val="9900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52280" y="3124080"/>
            <a:ext cx="914400" cy="304920"/>
          </a:xfrm>
          <a:prstGeom prst="rect">
            <a:avLst/>
          </a:prstGeom>
          <a:solidFill>
            <a:srgbClr val="9900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315200" y="167652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629400" y="167652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943600" y="167652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257800" y="167652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495680" y="1676520"/>
            <a:ext cx="27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809880" y="1676520"/>
            <a:ext cx="27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1676520"/>
            <a:ext cx="27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362320" y="167652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81280" y="5105520"/>
            <a:ext cx="76212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32160" y="2814480"/>
            <a:ext cx="37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imeline of next three iterations, original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257800" y="33526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rent ‘panel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257800" y="3352680"/>
            <a:ext cx="3581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gin factorization of  diagonal b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pdgetf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09680" y="3352680"/>
            <a:ext cx="7632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57800" y="3352680"/>
            <a:ext cx="35812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 maximum element in current column (pivo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pdama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09680" y="3352680"/>
            <a:ext cx="7632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0" y="3429000"/>
            <a:ext cx="0" cy="17524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09680" y="4114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257800" y="3352680"/>
            <a:ext cx="3581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p rows within the current pan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pdsw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09680" y="3352680"/>
            <a:ext cx="7632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0" y="3429000"/>
            <a:ext cx="0" cy="17524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09680" y="4114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09680" y="4191120"/>
            <a:ext cx="30492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9680" y="3429000"/>
            <a:ext cx="30492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102" idx="0"/>
            <a:endCxn id="91" idx="3"/>
          </p:cNvCxnSpPr>
          <p:nvPr/>
        </p:nvCxnSpPr>
        <p:spPr>
          <a:xfrm flipH="1" flipV="1" rot="5400000">
            <a:off x="2172240" y="3846960"/>
            <a:ext cx="694440" cy="10080"/>
          </a:xfrm>
          <a:prstGeom prst="curvedConnector5">
            <a:avLst>
              <a:gd name="adj1" fmla="val 6172"/>
              <a:gd name="adj2" fmla="val 1200000"/>
              <a:gd name="adj3" fmla="val 6172"/>
            </a:avLst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57800" y="3352680"/>
            <a:ext cx="3581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le current column by piv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pds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09680" y="3352680"/>
            <a:ext cx="7632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0" y="3429000"/>
            <a:ext cx="0" cy="175248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209680" y="3352680"/>
            <a:ext cx="304920" cy="1828800"/>
          </a:xfrm>
          <a:custGeom>
            <a:avLst/>
            <a:gdLst/>
            <a:ahLst/>
            <a:rect l="l" t="t" r="r" b="b"/>
            <a:pathLst>
              <a:path w="192" h="1152">
                <a:moveTo>
                  <a:pt x="0" y="0"/>
                </a:moveTo>
                <a:lnTo>
                  <a:pt x="192" y="192"/>
                </a:lnTo>
                <a:lnTo>
                  <a:pt x="192" y="1152"/>
                </a:lnTo>
                <a:lnTo>
                  <a:pt x="0" y="1152"/>
                </a:lnTo>
                <a:lnTo>
                  <a:pt x="0" y="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57800" y="335268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nk one modification within panel (pdg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09680" y="3352680"/>
            <a:ext cx="7632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257800" y="335268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eat until block is facto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09680" y="3352680"/>
            <a:ext cx="7632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09680" y="3352680"/>
            <a:ext cx="304920" cy="304920"/>
          </a:xfrm>
          <a:custGeom>
            <a:avLst/>
            <a:gdLst/>
            <a:ahLst/>
            <a:rect l="l" t="t" r="r" b="b"/>
            <a:pathLst>
              <a:path w="192" h="192">
                <a:moveTo>
                  <a:pt x="0" y="192"/>
                </a:moveTo>
                <a:lnTo>
                  <a:pt x="0" y="0"/>
                </a:lnTo>
                <a:lnTo>
                  <a:pt x="192" y="192"/>
                </a:lnTo>
                <a:lnTo>
                  <a:pt x="0" y="19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57800" y="335268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oadcast pivot information to all process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09680" y="3352680"/>
            <a:ext cx="7632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159984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1905120" y="35053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14600" y="3505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514600" y="3505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14600" y="35053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14600" y="35053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14600" y="35053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14600" y="35053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09680" y="3352680"/>
            <a:ext cx="304920" cy="304920"/>
          </a:xfrm>
          <a:custGeom>
            <a:avLst/>
            <a:gdLst/>
            <a:ahLst/>
            <a:rect l="l" t="t" r="r" b="b"/>
            <a:pathLst>
              <a:path w="192" h="192">
                <a:moveTo>
                  <a:pt x="0" y="192"/>
                </a:moveTo>
                <a:lnTo>
                  <a:pt x="0" y="0"/>
                </a:lnTo>
                <a:lnTo>
                  <a:pt x="192" y="192"/>
                </a:lnTo>
                <a:lnTo>
                  <a:pt x="0" y="19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1T23:24:48Z</dcterms:created>
  <dc:creator>marybeth</dc:creator>
  <dc:description/>
  <dc:language>en-US</dc:language>
  <cp:lastModifiedBy>jglewis</cp:lastModifiedBy>
  <dcterms:modified xsi:type="dcterms:W3CDTF">2005-11-07T23:27:06Z</dcterms:modified>
  <cp:revision>4</cp:revision>
  <dc:subject/>
  <dc:title>ScaLAPACK Tuning </dc:title>
</cp:coreProperties>
</file>