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8D4278-1CAB-46DE-AE8B-75F6F7858C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56EC2C-8C15-449D-A6B2-6A35A980BC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F36C9B-968F-4D93-8D5D-51E0AC815D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BF9A2B-D7B4-4A6C-98EE-BB6FC9EC2A0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8697BE-C2D4-4238-A1D9-B65E8C1DF63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F9A149-9FB8-45C7-B1C8-08F8CAB079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530CFB-C748-4436-B93D-EFED1695F7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C42CF9-36D9-4289-8CAD-A18C2E66C3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F7AAEB-F68C-414C-989A-2BAA8DA7A9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06F4EB-145E-4E30-917D-FFB382617E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E862BC-D557-4A64-B5C8-9B1575EE82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485DCF-BFE1-4B1A-A529-6F8571D8F8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0B1DD-EB99-4578-A2C6-B8AEB51D35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5468760" y="2612880"/>
            <a:ext cx="295560" cy="587520"/>
          </a:xfrm>
          <a:prstGeom prst="rect">
            <a:avLst/>
          </a:prstGeom>
          <a:ln w="0">
            <a:noFill/>
          </a:ln>
        </p:spPr>
      </p:pic>
      <p:grpSp>
        <p:nvGrpSpPr>
          <p:cNvPr id="41" name=""/>
          <p:cNvGrpSpPr/>
          <p:nvPr/>
        </p:nvGrpSpPr>
        <p:grpSpPr>
          <a:xfrm>
            <a:off x="1824120" y="1422360"/>
            <a:ext cx="312480" cy="495360"/>
            <a:chOff x="1824120" y="1422360"/>
            <a:chExt cx="312480" cy="495360"/>
          </a:xfrm>
        </p:grpSpPr>
        <p:sp>
          <p:nvSpPr>
            <p:cNvPr id="42" name=""/>
            <p:cNvSpPr/>
            <p:nvPr/>
          </p:nvSpPr>
          <p:spPr>
            <a:xfrm>
              <a:off x="1902240" y="142236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980360" y="156384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186264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8036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24120" y="167004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2590920" y="1228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629080" y="12906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438800" y="12952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676760" y="14558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701880" y="1600200"/>
            <a:ext cx="7146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19080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90800" y="187164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31920" y="1616040"/>
            <a:ext cx="465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14680" y="1066680"/>
            <a:ext cx="54792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5080" y="19810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32280" y="114300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32160" y="9144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1040" y="158760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9036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SK Roll-Over – Double-Signature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703840" y="1752480"/>
            <a:ext cx="312840" cy="495360"/>
            <a:chOff x="5703840" y="1752480"/>
            <a:chExt cx="312840" cy="495360"/>
          </a:xfrm>
        </p:grpSpPr>
        <p:sp>
          <p:nvSpPr>
            <p:cNvPr id="62" name=""/>
            <p:cNvSpPr/>
            <p:nvPr/>
          </p:nvSpPr>
          <p:spPr>
            <a:xfrm>
              <a:off x="5781960" y="175248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860080" y="18939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74236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6008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703840" y="2000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5268960" y="256392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550200" y="1467000"/>
            <a:ext cx="112680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575400" y="160344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77080" y="210996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558120" y="214632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8302680" y="8571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8531280" y="93348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6603840" y="7812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62800" y="87012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Document"/>
          <p:cNvSpPr/>
          <p:nvPr/>
        </p:nvSpPr>
        <p:spPr>
          <a:xfrm>
            <a:off x="7230960" y="78120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178760" y="87012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8469360" y="2685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415360" y="26989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7958160" y="2990880"/>
            <a:ext cx="312840" cy="501480"/>
            <a:chOff x="7958160" y="2990880"/>
            <a:chExt cx="312840" cy="501480"/>
          </a:xfrm>
        </p:grpSpPr>
        <p:sp>
          <p:nvSpPr>
            <p:cNvPr id="81" name=""/>
            <p:cNvSpPr/>
            <p:nvPr/>
          </p:nvSpPr>
          <p:spPr>
            <a:xfrm>
              <a:off x="8036280" y="29908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114400" y="31341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799668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11440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958160" y="32414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 flipH="1">
            <a:off x="7692840" y="116208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91120" y="1955880"/>
            <a:ext cx="559080" cy="6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84760" y="1359000"/>
            <a:ext cx="1765440" cy="24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685476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38828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108920" y="2362320"/>
            <a:ext cx="134604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8186400" y="28386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77280" y="3768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02480" y="3981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85200" y="4449600"/>
            <a:ext cx="110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877160" y="440064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110440" y="3460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950000" y="1739880"/>
            <a:ext cx="787320" cy="22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7927920" y="503388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616880" y="6035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Two Max Zone TTL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53240" y="4971960"/>
            <a:ext cx="939960" cy="1733760"/>
          </a:xfrm>
          <a:custGeom>
            <a:avLst/>
            <a:gdLst>
              <a:gd name="textAreaLeft" fmla="*/ 45720 w 939960"/>
              <a:gd name="textAreaRight" fmla="*/ 894240 w 939960"/>
              <a:gd name="textAreaTop" fmla="*/ 45720 h 1733760"/>
              <a:gd name="textAreaBottom" fmla="*/ 1688040 h 1733760"/>
            </a:gdLst>
            <a:ahLst/>
            <a:rect l="textAreaLeft" t="textAreaTop" r="textAreaRight" b="textAreaBottom"/>
            <a:pathLst>
              <a:path w="21600" h="39834">
                <a:moveTo>
                  <a:pt x="3600" y="0"/>
                </a:moveTo>
                <a:arcTo wR="3600" hR="3600" stAng="16200000" swAng="-5400000"/>
                <a:lnTo>
                  <a:pt x="0" y="36234"/>
                </a:lnTo>
                <a:arcTo wR="3600" hR="3600" stAng="10800000" swAng="-5400000"/>
                <a:lnTo>
                  <a:pt x="18000" y="398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53240" y="6458040"/>
            <a:ext cx="939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896240" y="644220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110440" y="46674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68640" y="49705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019400" y="51325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57720" y="560088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76560" y="5637240"/>
            <a:ext cx="1100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97360" y="2120760"/>
            <a:ext cx="155520" cy="204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941720" y="4122720"/>
            <a:ext cx="312840" cy="495360"/>
            <a:chOff x="4941720" y="4122720"/>
            <a:chExt cx="312840" cy="495360"/>
          </a:xfrm>
        </p:grpSpPr>
        <p:sp>
          <p:nvSpPr>
            <p:cNvPr id="111" name=""/>
            <p:cNvSpPr/>
            <p:nvPr/>
          </p:nvSpPr>
          <p:spPr>
            <a:xfrm>
              <a:off x="5019840" y="41227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097960" y="4264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498024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09796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941720" y="43704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 flipH="1">
            <a:off x="4800240" y="449568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94320" y="1905120"/>
            <a:ext cx="3240" cy="30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486400" y="21337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6531120" y="4049640"/>
            <a:ext cx="56340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478560" y="41133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7"/>
          <a:stretch/>
        </p:blipFill>
        <p:spPr>
          <a:xfrm>
            <a:off x="8302680" y="1619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8547120" y="16956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7692840" y="1847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8"/>
          <a:stretch/>
        </p:blipFill>
        <p:spPr>
          <a:xfrm>
            <a:off x="5487840" y="465624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578560" y="491004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271840" y="4307040"/>
            <a:ext cx="1244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5192280" y="3227400"/>
            <a:ext cx="304920" cy="88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611680" y="2971800"/>
            <a:ext cx="838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ZSK and ol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1760600">
            <a:off x="5095800" y="5603040"/>
            <a:ext cx="2362320" cy="381240"/>
          </a:xfrm>
          <a:custGeom>
            <a:avLst/>
            <a:gdLst>
              <a:gd name="textAreaLeft" fmla="*/ 369000 w 2362320"/>
              <a:gd name="textAreaRight" fmla="*/ 2067120 w 236232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032160" y="2158560"/>
            <a:ext cx="787320" cy="189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5068800" y="4973760"/>
            <a:ext cx="4572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7156400">
            <a:off x="4858200" y="342036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nly  include the 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0160" y="13143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Document"/>
          <p:cNvSpPr/>
          <p:nvPr/>
        </p:nvSpPr>
        <p:spPr>
          <a:xfrm>
            <a:off x="3468600" y="39877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14600" y="39877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44840" y="2438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4203720" y="3962520"/>
            <a:ext cx="312840" cy="501480"/>
            <a:chOff x="4203720" y="3962520"/>
            <a:chExt cx="312840" cy="501480"/>
          </a:xfrm>
        </p:grpSpPr>
        <p:sp>
          <p:nvSpPr>
            <p:cNvPr id="138" name=""/>
            <p:cNvSpPr/>
            <p:nvPr/>
          </p:nvSpPr>
          <p:spPr>
            <a:xfrm>
              <a:off x="4281840" y="39625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59960" y="41058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24224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35996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203720" y="4213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3216240" y="27590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54400" y="293364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11560" y="3452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508200" y="342900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Document"/>
          <p:cNvSpPr/>
          <p:nvPr/>
        </p:nvSpPr>
        <p:spPr>
          <a:xfrm>
            <a:off x="2757600" y="541008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05040" y="54864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276720" y="5334120"/>
            <a:ext cx="6969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324160" y="5410080"/>
            <a:ext cx="312840" cy="501840"/>
            <a:chOff x="2324160" y="5410080"/>
            <a:chExt cx="312840" cy="501840"/>
          </a:xfrm>
        </p:grpSpPr>
        <p:sp>
          <p:nvSpPr>
            <p:cNvPr id="151" name=""/>
            <p:cNvSpPr/>
            <p:nvPr/>
          </p:nvSpPr>
          <p:spPr>
            <a:xfrm>
              <a:off x="2402280" y="54100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80400" y="55533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236268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48040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24160" y="56610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171880" y="5105520"/>
            <a:ext cx="129528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71880" y="60958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40160" y="6083280"/>
            <a:ext cx="72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9499800">
            <a:off x="3506760" y="5574960"/>
            <a:ext cx="380880" cy="304920"/>
          </a:xfrm>
          <a:custGeom>
            <a:avLst/>
            <a:gdLst>
              <a:gd name="textAreaLeft" fmla="*/ 59400 w 380880"/>
              <a:gd name="textAreaRight" fmla="*/ 333360 w 3808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3897000" y="4495680"/>
            <a:ext cx="152280" cy="47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3962160" y="4076640"/>
            <a:ext cx="26676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733920" y="364500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17400000">
            <a:off x="2324520" y="4183560"/>
            <a:ext cx="1338480" cy="304920"/>
          </a:xfrm>
          <a:custGeom>
            <a:avLst/>
            <a:gdLst>
              <a:gd name="textAreaLeft" fmla="*/ 209160 w 1338480"/>
              <a:gd name="textAreaRight" fmla="*/ 1171440 w 13384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3040" y="5181480"/>
            <a:ext cx="11430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3040" y="6019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6880" y="598644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1200" y="533412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00200" y="5638680"/>
            <a:ext cx="457200" cy="228600"/>
          </a:xfrm>
          <a:prstGeom prst="leftRight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73120" y="63244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828800" y="58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3360" y="4788000"/>
            <a:ext cx="1447920" cy="1879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3080" y="635004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49Z</dcterms:modified>
  <cp:revision>154</cp:revision>
  <dc:subject/>
  <dc:title>Slide 1</dc:title>
</cp:coreProperties>
</file>