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77138"/>
        <c:axId val="26350276"/>
      </c:barChart>
      <c:catAx>
        <c:axId val="89377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50276"/>
        <c:crosses val="autoZero"/>
        <c:auto val="1"/>
        <c:lblAlgn val="ctr"/>
        <c:lblOffset val="100"/>
        <c:noMultiLvlLbl val="0"/>
      </c:catAx>
      <c:valAx>
        <c:axId val="26350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77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16F-E5BB-4241-B260-3FA434B2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715-764A-4F87-80A3-299E3926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423-4F19-40FA-A866-25B281EB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532-5CD8-42C6-8973-D94CE80E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5FE-F64D-4AE8-AEAD-6AB10124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73F-6A8B-40B3-8518-07493A99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DDE-ADC6-4403-BF90-F14BC4D1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9C85-FF5E-4D9E-A123-BD22892A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E39-7C65-4F6E-8420-46F2A5F4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692-D239-4C31-8E61-9A731A91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D38-23E9-43B9-B24E-F31AC29E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045-1459-4C4F-BEA9-C026D2D2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EE941-A9D5-41A7-9D8A-CFD8B8A22D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