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1960" y="6232680"/>
            <a:ext cx="133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Ronald D. (Ron) Ry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Chair T1P1.SA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810560" y="6324480"/>
            <a:ext cx="1051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lide </a:t>
            </a:r>
            <a:fld id="{1A7301C3-A254-4238-9798-6CB6FDF4869E}" type="slidenum"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228600"/>
            <a:ext cx="8610480" cy="64008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781440" y="6324480"/>
            <a:ext cx="1579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Copyright Nortel Network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857360" y="22860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T1P1/2001-04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28320" y="1752480"/>
            <a:ext cx="4444920" cy="23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3G UMTS LI Capab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1P1.SA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pril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"/>
          <p:cNvSpPr/>
          <p:nvPr/>
        </p:nvSpPr>
        <p:spPr>
          <a:xfrm>
            <a:off x="685800" y="251460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1981080" y="3048120"/>
            <a:ext cx="0" cy="1904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1143000" y="3733920"/>
            <a:ext cx="167652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1523880" y="5029200"/>
            <a:ext cx="8384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1257480" y="2438280"/>
            <a:ext cx="148572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(SGSN, GGS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1523880" y="320040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1417680" y="43434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2135520" y="320040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3708720" y="409680"/>
            <a:ext cx="172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99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acket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1142280" y="1828800"/>
            <a:ext cx="195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GSN Content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4114800" y="251460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5486400" y="3048120"/>
            <a:ext cx="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4648320" y="3733920"/>
            <a:ext cx="167616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5029200" y="502920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4762440" y="2438280"/>
            <a:ext cx="148608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(SGSN, GGS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5029200" y="320040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4998960" y="441972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5640480" y="320040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4800960" y="1828800"/>
            <a:ext cx="160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GSN IRI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45720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612000" y="2666880"/>
            <a:ext cx="64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ck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312408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388620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4116600" y="2666880"/>
            <a:ext cx="64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6172200" y="4495680"/>
            <a:ext cx="2438280" cy="163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SGSN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- Mobile Station Attach/Deta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PDP Context Activation/Deactivation </a:t>
            </a: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tart of intercept w/PDP context active </a:t>
            </a: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RA Upd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 GGSN Applicable Ev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1123920" y="1295280"/>
            <a:ext cx="547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ew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3G GSN Data LI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 Capabilitie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 for R99 (Packet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2971800" y="4495680"/>
            <a:ext cx="1447920" cy="9345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onten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IP packets: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en-US" sz="1000" spc="-1" strike="noStrike" u="sng">
                <a:solidFill>
                  <a:srgbClr val="ff0000"/>
                </a:solidFill>
                <a:uFillTx/>
                <a:latin typeface="Times New Roman"/>
              </a:rPr>
              <a:t>not</a:t>
            </a:r>
            <a:r>
              <a:rPr b="0" lang="en-US" sz="1000" spc="-1" strike="noStrike">
                <a:solidFill>
                  <a:srgbClr val="ff0000"/>
                </a:solidFill>
                <a:latin typeface="Times New Roman"/>
              </a:rPr>
              <a:t> under control of a call/session Access Management Control functio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1982880" y="4343400"/>
            <a:ext cx="570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5552280" y="4343400"/>
            <a:ext cx="59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R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1" name=""/>
          <p:cNvGraphicFramePr/>
          <p:nvPr/>
        </p:nvGraphicFramePr>
        <p:xfrm>
          <a:off x="4343400" y="4038480"/>
          <a:ext cx="4114800" cy="2032200"/>
        </p:xfrm>
        <a:graphic>
          <a:graphicData uri="http://schemas.openxmlformats.org/drawingml/2006/table">
            <a:tbl>
              <a:tblPr/>
              <a:tblGrid>
                <a:gridCol w="685800"/>
                <a:gridCol w="1524240"/>
                <a:gridCol w="1904760"/>
              </a:tblGrid>
              <a:tr h="528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nt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-3 and HI-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-2 and HI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766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S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GMS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TD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ircuit-Switched Ev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dition 1 - Annex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736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GS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GGS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Packe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S 201 67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dition 1 - Annex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Packet-Switched Ev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dition 2 - Annex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22" name=""/>
          <p:cNvSpPr/>
          <p:nvPr/>
        </p:nvSpPr>
        <p:spPr>
          <a:xfrm>
            <a:off x="3308040" y="409680"/>
            <a:ext cx="2530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99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acket Domain - Summ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4267080" y="1905120"/>
            <a:ext cx="609840" cy="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2743200" y="1905120"/>
            <a:ext cx="914400" cy="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990720" y="2590920"/>
            <a:ext cx="609480" cy="53316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609480" y="160020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533520" y="2133720"/>
            <a:ext cx="60948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TR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1143360" y="175248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Iu-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4734000" y="1455840"/>
            <a:ext cx="1703160" cy="880920"/>
          </a:xfrm>
          <a:custGeom>
            <a:avLst/>
            <a:gdLst/>
            <a:ahLst/>
            <a:rect l="l" t="t" r="r" b="b"/>
            <a:pathLst>
              <a:path w="1073" h="555">
                <a:moveTo>
                  <a:pt x="339" y="81"/>
                </a:moveTo>
                <a:lnTo>
                  <a:pt x="363" y="74"/>
                </a:lnTo>
                <a:lnTo>
                  <a:pt x="385" y="68"/>
                </a:lnTo>
                <a:lnTo>
                  <a:pt x="405" y="62"/>
                </a:lnTo>
                <a:lnTo>
                  <a:pt x="425" y="56"/>
                </a:lnTo>
                <a:lnTo>
                  <a:pt x="443" y="51"/>
                </a:lnTo>
                <a:lnTo>
                  <a:pt x="460" y="46"/>
                </a:lnTo>
                <a:lnTo>
                  <a:pt x="476" y="41"/>
                </a:lnTo>
                <a:lnTo>
                  <a:pt x="491" y="36"/>
                </a:lnTo>
                <a:lnTo>
                  <a:pt x="518" y="28"/>
                </a:lnTo>
                <a:lnTo>
                  <a:pt x="543" y="21"/>
                </a:lnTo>
                <a:lnTo>
                  <a:pt x="566" y="15"/>
                </a:lnTo>
                <a:lnTo>
                  <a:pt x="588" y="10"/>
                </a:lnTo>
                <a:lnTo>
                  <a:pt x="610" y="6"/>
                </a:lnTo>
                <a:lnTo>
                  <a:pt x="632" y="3"/>
                </a:lnTo>
                <a:lnTo>
                  <a:pt x="655" y="1"/>
                </a:lnTo>
                <a:lnTo>
                  <a:pt x="681" y="0"/>
                </a:lnTo>
                <a:lnTo>
                  <a:pt x="709" y="0"/>
                </a:lnTo>
                <a:lnTo>
                  <a:pt x="724" y="0"/>
                </a:lnTo>
                <a:lnTo>
                  <a:pt x="740" y="1"/>
                </a:lnTo>
                <a:lnTo>
                  <a:pt x="758" y="2"/>
                </a:lnTo>
                <a:lnTo>
                  <a:pt x="776" y="3"/>
                </a:lnTo>
                <a:lnTo>
                  <a:pt x="796" y="4"/>
                </a:lnTo>
                <a:lnTo>
                  <a:pt x="817" y="6"/>
                </a:lnTo>
                <a:lnTo>
                  <a:pt x="825" y="18"/>
                </a:lnTo>
                <a:lnTo>
                  <a:pt x="832" y="28"/>
                </a:lnTo>
                <a:lnTo>
                  <a:pt x="838" y="37"/>
                </a:lnTo>
                <a:lnTo>
                  <a:pt x="843" y="44"/>
                </a:lnTo>
                <a:lnTo>
                  <a:pt x="847" y="51"/>
                </a:lnTo>
                <a:lnTo>
                  <a:pt x="850" y="56"/>
                </a:lnTo>
                <a:lnTo>
                  <a:pt x="855" y="64"/>
                </a:lnTo>
                <a:lnTo>
                  <a:pt x="857" y="69"/>
                </a:lnTo>
                <a:lnTo>
                  <a:pt x="857" y="73"/>
                </a:lnTo>
                <a:lnTo>
                  <a:pt x="856" y="77"/>
                </a:lnTo>
                <a:lnTo>
                  <a:pt x="854" y="82"/>
                </a:lnTo>
                <a:lnTo>
                  <a:pt x="852" y="90"/>
                </a:lnTo>
                <a:lnTo>
                  <a:pt x="851" y="94"/>
                </a:lnTo>
                <a:lnTo>
                  <a:pt x="850" y="100"/>
                </a:lnTo>
                <a:lnTo>
                  <a:pt x="849" y="107"/>
                </a:lnTo>
                <a:lnTo>
                  <a:pt x="849" y="115"/>
                </a:lnTo>
                <a:lnTo>
                  <a:pt x="848" y="124"/>
                </a:lnTo>
                <a:lnTo>
                  <a:pt x="848" y="135"/>
                </a:lnTo>
                <a:lnTo>
                  <a:pt x="849" y="147"/>
                </a:lnTo>
                <a:lnTo>
                  <a:pt x="850" y="162"/>
                </a:lnTo>
                <a:lnTo>
                  <a:pt x="851" y="178"/>
                </a:lnTo>
                <a:lnTo>
                  <a:pt x="853" y="196"/>
                </a:lnTo>
                <a:lnTo>
                  <a:pt x="856" y="217"/>
                </a:lnTo>
                <a:lnTo>
                  <a:pt x="860" y="240"/>
                </a:lnTo>
                <a:lnTo>
                  <a:pt x="864" y="265"/>
                </a:lnTo>
                <a:lnTo>
                  <a:pt x="869" y="293"/>
                </a:lnTo>
                <a:lnTo>
                  <a:pt x="872" y="300"/>
                </a:lnTo>
                <a:lnTo>
                  <a:pt x="878" y="307"/>
                </a:lnTo>
                <a:lnTo>
                  <a:pt x="886" y="314"/>
                </a:lnTo>
                <a:lnTo>
                  <a:pt x="897" y="322"/>
                </a:lnTo>
                <a:lnTo>
                  <a:pt x="910" y="330"/>
                </a:lnTo>
                <a:lnTo>
                  <a:pt x="925" y="338"/>
                </a:lnTo>
                <a:lnTo>
                  <a:pt x="940" y="347"/>
                </a:lnTo>
                <a:lnTo>
                  <a:pt x="957" y="355"/>
                </a:lnTo>
                <a:lnTo>
                  <a:pt x="991" y="372"/>
                </a:lnTo>
                <a:lnTo>
                  <a:pt x="1007" y="381"/>
                </a:lnTo>
                <a:lnTo>
                  <a:pt x="1023" y="389"/>
                </a:lnTo>
                <a:lnTo>
                  <a:pt x="1038" y="397"/>
                </a:lnTo>
                <a:lnTo>
                  <a:pt x="1052" y="404"/>
                </a:lnTo>
                <a:lnTo>
                  <a:pt x="1064" y="411"/>
                </a:lnTo>
                <a:lnTo>
                  <a:pt x="1073" y="417"/>
                </a:lnTo>
                <a:lnTo>
                  <a:pt x="1069" y="429"/>
                </a:lnTo>
                <a:lnTo>
                  <a:pt x="1063" y="439"/>
                </a:lnTo>
                <a:lnTo>
                  <a:pt x="1050" y="459"/>
                </a:lnTo>
                <a:lnTo>
                  <a:pt x="1033" y="476"/>
                </a:lnTo>
                <a:lnTo>
                  <a:pt x="1013" y="490"/>
                </a:lnTo>
                <a:lnTo>
                  <a:pt x="990" y="503"/>
                </a:lnTo>
                <a:lnTo>
                  <a:pt x="965" y="513"/>
                </a:lnTo>
                <a:lnTo>
                  <a:pt x="938" y="522"/>
                </a:lnTo>
                <a:lnTo>
                  <a:pt x="909" y="529"/>
                </a:lnTo>
                <a:lnTo>
                  <a:pt x="879" y="535"/>
                </a:lnTo>
                <a:lnTo>
                  <a:pt x="848" y="540"/>
                </a:lnTo>
                <a:lnTo>
                  <a:pt x="785" y="546"/>
                </a:lnTo>
                <a:lnTo>
                  <a:pt x="723" y="551"/>
                </a:lnTo>
                <a:lnTo>
                  <a:pt x="692" y="553"/>
                </a:lnTo>
                <a:lnTo>
                  <a:pt x="663" y="555"/>
                </a:lnTo>
                <a:lnTo>
                  <a:pt x="595" y="552"/>
                </a:lnTo>
                <a:lnTo>
                  <a:pt x="526" y="550"/>
                </a:lnTo>
                <a:lnTo>
                  <a:pt x="457" y="547"/>
                </a:lnTo>
                <a:lnTo>
                  <a:pt x="389" y="543"/>
                </a:lnTo>
                <a:lnTo>
                  <a:pt x="376" y="542"/>
                </a:lnTo>
                <a:lnTo>
                  <a:pt x="365" y="539"/>
                </a:lnTo>
                <a:lnTo>
                  <a:pt x="355" y="536"/>
                </a:lnTo>
                <a:lnTo>
                  <a:pt x="346" y="533"/>
                </a:lnTo>
                <a:lnTo>
                  <a:pt x="331" y="524"/>
                </a:lnTo>
                <a:lnTo>
                  <a:pt x="319" y="514"/>
                </a:lnTo>
                <a:lnTo>
                  <a:pt x="307" y="503"/>
                </a:lnTo>
                <a:lnTo>
                  <a:pt x="296" y="491"/>
                </a:lnTo>
                <a:lnTo>
                  <a:pt x="284" y="479"/>
                </a:lnTo>
                <a:lnTo>
                  <a:pt x="270" y="467"/>
                </a:lnTo>
                <a:lnTo>
                  <a:pt x="258" y="460"/>
                </a:lnTo>
                <a:lnTo>
                  <a:pt x="245" y="454"/>
                </a:lnTo>
                <a:lnTo>
                  <a:pt x="231" y="449"/>
                </a:lnTo>
                <a:lnTo>
                  <a:pt x="218" y="443"/>
                </a:lnTo>
                <a:lnTo>
                  <a:pt x="201" y="430"/>
                </a:lnTo>
                <a:lnTo>
                  <a:pt x="185" y="417"/>
                </a:lnTo>
                <a:lnTo>
                  <a:pt x="180" y="403"/>
                </a:lnTo>
                <a:lnTo>
                  <a:pt x="175" y="390"/>
                </a:lnTo>
                <a:lnTo>
                  <a:pt x="171" y="378"/>
                </a:lnTo>
                <a:lnTo>
                  <a:pt x="167" y="368"/>
                </a:lnTo>
                <a:lnTo>
                  <a:pt x="159" y="349"/>
                </a:lnTo>
                <a:lnTo>
                  <a:pt x="150" y="334"/>
                </a:lnTo>
                <a:lnTo>
                  <a:pt x="144" y="328"/>
                </a:lnTo>
                <a:lnTo>
                  <a:pt x="137" y="322"/>
                </a:lnTo>
                <a:lnTo>
                  <a:pt x="130" y="316"/>
                </a:lnTo>
                <a:lnTo>
                  <a:pt x="120" y="311"/>
                </a:lnTo>
                <a:lnTo>
                  <a:pt x="109" y="306"/>
                </a:lnTo>
                <a:lnTo>
                  <a:pt x="97" y="302"/>
                </a:lnTo>
                <a:lnTo>
                  <a:pt x="82" y="297"/>
                </a:lnTo>
                <a:lnTo>
                  <a:pt x="65" y="293"/>
                </a:lnTo>
                <a:lnTo>
                  <a:pt x="45" y="269"/>
                </a:lnTo>
                <a:lnTo>
                  <a:pt x="27" y="244"/>
                </a:lnTo>
                <a:lnTo>
                  <a:pt x="20" y="232"/>
                </a:lnTo>
                <a:lnTo>
                  <a:pt x="13" y="220"/>
                </a:lnTo>
                <a:lnTo>
                  <a:pt x="8" y="207"/>
                </a:lnTo>
                <a:lnTo>
                  <a:pt x="4" y="194"/>
                </a:lnTo>
                <a:lnTo>
                  <a:pt x="1" y="181"/>
                </a:lnTo>
                <a:lnTo>
                  <a:pt x="0" y="168"/>
                </a:lnTo>
                <a:lnTo>
                  <a:pt x="0" y="154"/>
                </a:lnTo>
                <a:lnTo>
                  <a:pt x="2" y="140"/>
                </a:lnTo>
                <a:lnTo>
                  <a:pt x="6" y="126"/>
                </a:lnTo>
                <a:lnTo>
                  <a:pt x="12" y="112"/>
                </a:lnTo>
                <a:lnTo>
                  <a:pt x="21" y="97"/>
                </a:lnTo>
                <a:lnTo>
                  <a:pt x="31" y="81"/>
                </a:lnTo>
                <a:lnTo>
                  <a:pt x="35" y="77"/>
                </a:lnTo>
                <a:lnTo>
                  <a:pt x="40" y="73"/>
                </a:lnTo>
                <a:lnTo>
                  <a:pt x="47" y="70"/>
                </a:lnTo>
                <a:lnTo>
                  <a:pt x="54" y="67"/>
                </a:lnTo>
                <a:lnTo>
                  <a:pt x="71" y="63"/>
                </a:lnTo>
                <a:lnTo>
                  <a:pt x="88" y="60"/>
                </a:lnTo>
                <a:lnTo>
                  <a:pt x="105" y="58"/>
                </a:lnTo>
                <a:lnTo>
                  <a:pt x="113" y="57"/>
                </a:lnTo>
                <a:lnTo>
                  <a:pt x="119" y="57"/>
                </a:lnTo>
                <a:lnTo>
                  <a:pt x="125" y="56"/>
                </a:lnTo>
                <a:lnTo>
                  <a:pt x="129" y="56"/>
                </a:lnTo>
                <a:lnTo>
                  <a:pt x="132" y="56"/>
                </a:lnTo>
                <a:lnTo>
                  <a:pt x="133" y="56"/>
                </a:lnTo>
                <a:lnTo>
                  <a:pt x="176" y="59"/>
                </a:lnTo>
                <a:lnTo>
                  <a:pt x="219" y="61"/>
                </a:lnTo>
                <a:lnTo>
                  <a:pt x="262" y="63"/>
                </a:lnTo>
                <a:lnTo>
                  <a:pt x="283" y="65"/>
                </a:lnTo>
                <a:lnTo>
                  <a:pt x="304" y="68"/>
                </a:lnTo>
                <a:lnTo>
                  <a:pt x="311" y="70"/>
                </a:lnTo>
                <a:lnTo>
                  <a:pt x="317" y="72"/>
                </a:lnTo>
                <a:lnTo>
                  <a:pt x="326" y="78"/>
                </a:lnTo>
                <a:lnTo>
                  <a:pt x="332" y="84"/>
                </a:lnTo>
                <a:lnTo>
                  <a:pt x="336" y="89"/>
                </a:lnTo>
                <a:lnTo>
                  <a:pt x="338" y="92"/>
                </a:lnTo>
                <a:lnTo>
                  <a:pt x="339" y="93"/>
                </a:lnTo>
                <a:lnTo>
                  <a:pt x="339" y="92"/>
                </a:lnTo>
                <a:lnTo>
                  <a:pt x="339" y="89"/>
                </a:lnTo>
                <a:lnTo>
                  <a:pt x="339" y="86"/>
                </a:lnTo>
                <a:lnTo>
                  <a:pt x="339" y="81"/>
                </a:lnTo>
                <a:close/>
              </a:path>
            </a:pathLst>
          </a:custGeom>
          <a:noFill/>
          <a:ln w="936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4881600" y="1574640"/>
            <a:ext cx="1263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5317200" y="1627200"/>
            <a:ext cx="390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PST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4974840" y="1809720"/>
            <a:ext cx="1075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Legacy/Exter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5199120" y="1992240"/>
            <a:ext cx="625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2760840" y="4648320"/>
            <a:ext cx="0" cy="609480"/>
          </a:xfrm>
          <a:prstGeom prst="line">
            <a:avLst/>
          </a:prstGeom>
          <a:ln cap="rnd" w="28440">
            <a:solidFill>
              <a:srgbClr val="ff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3065400" y="4648320"/>
            <a:ext cx="0" cy="68580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2438280" y="2362320"/>
            <a:ext cx="381240" cy="190476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1981080" y="3505320"/>
            <a:ext cx="609840" cy="76176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 flipH="1">
            <a:off x="3370320" y="3429000"/>
            <a:ext cx="668160" cy="83808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 flipH="1">
            <a:off x="3123720" y="2286000"/>
            <a:ext cx="762120" cy="198108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2303640" y="4267080"/>
            <a:ext cx="12952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D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2532240" y="5181480"/>
            <a:ext cx="7617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L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2228760" y="48006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3143160" y="48006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1754280" y="3733920"/>
            <a:ext cx="41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838080" y="1905120"/>
            <a:ext cx="18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2057400" y="3048120"/>
            <a:ext cx="1981080" cy="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 flipV="1">
            <a:off x="1143000" y="1905120"/>
            <a:ext cx="762120" cy="38088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838800" y="297180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Iu-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3429000" y="1676520"/>
            <a:ext cx="8380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MS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1905120" y="1676520"/>
            <a:ext cx="9144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S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1600200" y="2819520"/>
            <a:ext cx="7621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SGS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3886200" y="2819520"/>
            <a:ext cx="7621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GS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1752480" y="32004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2286000" y="20574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4038480" y="32004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3733920" y="205740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5191200" y="2598840"/>
            <a:ext cx="1703160" cy="880920"/>
          </a:xfrm>
          <a:custGeom>
            <a:avLst/>
            <a:gdLst/>
            <a:ahLst/>
            <a:rect l="l" t="t" r="r" b="b"/>
            <a:pathLst>
              <a:path w="1073" h="555">
                <a:moveTo>
                  <a:pt x="339" y="81"/>
                </a:moveTo>
                <a:lnTo>
                  <a:pt x="363" y="74"/>
                </a:lnTo>
                <a:lnTo>
                  <a:pt x="385" y="68"/>
                </a:lnTo>
                <a:lnTo>
                  <a:pt x="405" y="62"/>
                </a:lnTo>
                <a:lnTo>
                  <a:pt x="425" y="56"/>
                </a:lnTo>
                <a:lnTo>
                  <a:pt x="443" y="51"/>
                </a:lnTo>
                <a:lnTo>
                  <a:pt x="460" y="46"/>
                </a:lnTo>
                <a:lnTo>
                  <a:pt x="476" y="41"/>
                </a:lnTo>
                <a:lnTo>
                  <a:pt x="491" y="36"/>
                </a:lnTo>
                <a:lnTo>
                  <a:pt x="518" y="28"/>
                </a:lnTo>
                <a:lnTo>
                  <a:pt x="543" y="21"/>
                </a:lnTo>
                <a:lnTo>
                  <a:pt x="566" y="15"/>
                </a:lnTo>
                <a:lnTo>
                  <a:pt x="588" y="10"/>
                </a:lnTo>
                <a:lnTo>
                  <a:pt x="610" y="6"/>
                </a:lnTo>
                <a:lnTo>
                  <a:pt x="632" y="3"/>
                </a:lnTo>
                <a:lnTo>
                  <a:pt x="655" y="1"/>
                </a:lnTo>
                <a:lnTo>
                  <a:pt x="681" y="0"/>
                </a:lnTo>
                <a:lnTo>
                  <a:pt x="709" y="0"/>
                </a:lnTo>
                <a:lnTo>
                  <a:pt x="724" y="0"/>
                </a:lnTo>
                <a:lnTo>
                  <a:pt x="740" y="1"/>
                </a:lnTo>
                <a:lnTo>
                  <a:pt x="758" y="2"/>
                </a:lnTo>
                <a:lnTo>
                  <a:pt x="776" y="3"/>
                </a:lnTo>
                <a:lnTo>
                  <a:pt x="796" y="4"/>
                </a:lnTo>
                <a:lnTo>
                  <a:pt x="817" y="6"/>
                </a:lnTo>
                <a:lnTo>
                  <a:pt x="825" y="18"/>
                </a:lnTo>
                <a:lnTo>
                  <a:pt x="832" y="28"/>
                </a:lnTo>
                <a:lnTo>
                  <a:pt x="838" y="37"/>
                </a:lnTo>
                <a:lnTo>
                  <a:pt x="843" y="44"/>
                </a:lnTo>
                <a:lnTo>
                  <a:pt x="847" y="51"/>
                </a:lnTo>
                <a:lnTo>
                  <a:pt x="850" y="56"/>
                </a:lnTo>
                <a:lnTo>
                  <a:pt x="855" y="64"/>
                </a:lnTo>
                <a:lnTo>
                  <a:pt x="857" y="69"/>
                </a:lnTo>
                <a:lnTo>
                  <a:pt x="857" y="73"/>
                </a:lnTo>
                <a:lnTo>
                  <a:pt x="856" y="77"/>
                </a:lnTo>
                <a:lnTo>
                  <a:pt x="854" y="82"/>
                </a:lnTo>
                <a:lnTo>
                  <a:pt x="852" y="90"/>
                </a:lnTo>
                <a:lnTo>
                  <a:pt x="851" y="94"/>
                </a:lnTo>
                <a:lnTo>
                  <a:pt x="850" y="100"/>
                </a:lnTo>
                <a:lnTo>
                  <a:pt x="849" y="107"/>
                </a:lnTo>
                <a:lnTo>
                  <a:pt x="849" y="115"/>
                </a:lnTo>
                <a:lnTo>
                  <a:pt x="848" y="124"/>
                </a:lnTo>
                <a:lnTo>
                  <a:pt x="848" y="135"/>
                </a:lnTo>
                <a:lnTo>
                  <a:pt x="849" y="147"/>
                </a:lnTo>
                <a:lnTo>
                  <a:pt x="850" y="162"/>
                </a:lnTo>
                <a:lnTo>
                  <a:pt x="851" y="178"/>
                </a:lnTo>
                <a:lnTo>
                  <a:pt x="853" y="196"/>
                </a:lnTo>
                <a:lnTo>
                  <a:pt x="856" y="217"/>
                </a:lnTo>
                <a:lnTo>
                  <a:pt x="860" y="240"/>
                </a:lnTo>
                <a:lnTo>
                  <a:pt x="864" y="265"/>
                </a:lnTo>
                <a:lnTo>
                  <a:pt x="869" y="293"/>
                </a:lnTo>
                <a:lnTo>
                  <a:pt x="872" y="300"/>
                </a:lnTo>
                <a:lnTo>
                  <a:pt x="878" y="307"/>
                </a:lnTo>
                <a:lnTo>
                  <a:pt x="886" y="314"/>
                </a:lnTo>
                <a:lnTo>
                  <a:pt x="897" y="322"/>
                </a:lnTo>
                <a:lnTo>
                  <a:pt x="910" y="330"/>
                </a:lnTo>
                <a:lnTo>
                  <a:pt x="925" y="338"/>
                </a:lnTo>
                <a:lnTo>
                  <a:pt x="940" y="347"/>
                </a:lnTo>
                <a:lnTo>
                  <a:pt x="957" y="355"/>
                </a:lnTo>
                <a:lnTo>
                  <a:pt x="991" y="372"/>
                </a:lnTo>
                <a:lnTo>
                  <a:pt x="1007" y="381"/>
                </a:lnTo>
                <a:lnTo>
                  <a:pt x="1023" y="389"/>
                </a:lnTo>
                <a:lnTo>
                  <a:pt x="1038" y="397"/>
                </a:lnTo>
                <a:lnTo>
                  <a:pt x="1052" y="404"/>
                </a:lnTo>
                <a:lnTo>
                  <a:pt x="1064" y="411"/>
                </a:lnTo>
                <a:lnTo>
                  <a:pt x="1073" y="417"/>
                </a:lnTo>
                <a:lnTo>
                  <a:pt x="1069" y="429"/>
                </a:lnTo>
                <a:lnTo>
                  <a:pt x="1063" y="439"/>
                </a:lnTo>
                <a:lnTo>
                  <a:pt x="1050" y="459"/>
                </a:lnTo>
                <a:lnTo>
                  <a:pt x="1033" y="476"/>
                </a:lnTo>
                <a:lnTo>
                  <a:pt x="1013" y="490"/>
                </a:lnTo>
                <a:lnTo>
                  <a:pt x="990" y="503"/>
                </a:lnTo>
                <a:lnTo>
                  <a:pt x="965" y="513"/>
                </a:lnTo>
                <a:lnTo>
                  <a:pt x="938" y="522"/>
                </a:lnTo>
                <a:lnTo>
                  <a:pt x="909" y="529"/>
                </a:lnTo>
                <a:lnTo>
                  <a:pt x="879" y="535"/>
                </a:lnTo>
                <a:lnTo>
                  <a:pt x="848" y="540"/>
                </a:lnTo>
                <a:lnTo>
                  <a:pt x="785" y="546"/>
                </a:lnTo>
                <a:lnTo>
                  <a:pt x="723" y="551"/>
                </a:lnTo>
                <a:lnTo>
                  <a:pt x="692" y="553"/>
                </a:lnTo>
                <a:lnTo>
                  <a:pt x="663" y="555"/>
                </a:lnTo>
                <a:lnTo>
                  <a:pt x="595" y="552"/>
                </a:lnTo>
                <a:lnTo>
                  <a:pt x="526" y="550"/>
                </a:lnTo>
                <a:lnTo>
                  <a:pt x="457" y="547"/>
                </a:lnTo>
                <a:lnTo>
                  <a:pt x="389" y="543"/>
                </a:lnTo>
                <a:lnTo>
                  <a:pt x="376" y="542"/>
                </a:lnTo>
                <a:lnTo>
                  <a:pt x="365" y="539"/>
                </a:lnTo>
                <a:lnTo>
                  <a:pt x="355" y="536"/>
                </a:lnTo>
                <a:lnTo>
                  <a:pt x="346" y="533"/>
                </a:lnTo>
                <a:lnTo>
                  <a:pt x="331" y="524"/>
                </a:lnTo>
                <a:lnTo>
                  <a:pt x="319" y="514"/>
                </a:lnTo>
                <a:lnTo>
                  <a:pt x="307" y="503"/>
                </a:lnTo>
                <a:lnTo>
                  <a:pt x="296" y="491"/>
                </a:lnTo>
                <a:lnTo>
                  <a:pt x="284" y="479"/>
                </a:lnTo>
                <a:lnTo>
                  <a:pt x="270" y="467"/>
                </a:lnTo>
                <a:lnTo>
                  <a:pt x="258" y="460"/>
                </a:lnTo>
                <a:lnTo>
                  <a:pt x="245" y="454"/>
                </a:lnTo>
                <a:lnTo>
                  <a:pt x="231" y="449"/>
                </a:lnTo>
                <a:lnTo>
                  <a:pt x="218" y="443"/>
                </a:lnTo>
                <a:lnTo>
                  <a:pt x="201" y="430"/>
                </a:lnTo>
                <a:lnTo>
                  <a:pt x="185" y="417"/>
                </a:lnTo>
                <a:lnTo>
                  <a:pt x="180" y="403"/>
                </a:lnTo>
                <a:lnTo>
                  <a:pt x="175" y="390"/>
                </a:lnTo>
                <a:lnTo>
                  <a:pt x="171" y="378"/>
                </a:lnTo>
                <a:lnTo>
                  <a:pt x="167" y="368"/>
                </a:lnTo>
                <a:lnTo>
                  <a:pt x="159" y="349"/>
                </a:lnTo>
                <a:lnTo>
                  <a:pt x="150" y="334"/>
                </a:lnTo>
                <a:lnTo>
                  <a:pt x="144" y="328"/>
                </a:lnTo>
                <a:lnTo>
                  <a:pt x="137" y="322"/>
                </a:lnTo>
                <a:lnTo>
                  <a:pt x="130" y="316"/>
                </a:lnTo>
                <a:lnTo>
                  <a:pt x="120" y="311"/>
                </a:lnTo>
                <a:lnTo>
                  <a:pt x="109" y="306"/>
                </a:lnTo>
                <a:lnTo>
                  <a:pt x="97" y="302"/>
                </a:lnTo>
                <a:lnTo>
                  <a:pt x="82" y="297"/>
                </a:lnTo>
                <a:lnTo>
                  <a:pt x="65" y="293"/>
                </a:lnTo>
                <a:lnTo>
                  <a:pt x="45" y="269"/>
                </a:lnTo>
                <a:lnTo>
                  <a:pt x="27" y="244"/>
                </a:lnTo>
                <a:lnTo>
                  <a:pt x="20" y="232"/>
                </a:lnTo>
                <a:lnTo>
                  <a:pt x="13" y="220"/>
                </a:lnTo>
                <a:lnTo>
                  <a:pt x="8" y="207"/>
                </a:lnTo>
                <a:lnTo>
                  <a:pt x="4" y="194"/>
                </a:lnTo>
                <a:lnTo>
                  <a:pt x="1" y="181"/>
                </a:lnTo>
                <a:lnTo>
                  <a:pt x="0" y="168"/>
                </a:lnTo>
                <a:lnTo>
                  <a:pt x="0" y="154"/>
                </a:lnTo>
                <a:lnTo>
                  <a:pt x="2" y="140"/>
                </a:lnTo>
                <a:lnTo>
                  <a:pt x="6" y="126"/>
                </a:lnTo>
                <a:lnTo>
                  <a:pt x="12" y="112"/>
                </a:lnTo>
                <a:lnTo>
                  <a:pt x="21" y="97"/>
                </a:lnTo>
                <a:lnTo>
                  <a:pt x="31" y="81"/>
                </a:lnTo>
                <a:lnTo>
                  <a:pt x="35" y="77"/>
                </a:lnTo>
                <a:lnTo>
                  <a:pt x="40" y="73"/>
                </a:lnTo>
                <a:lnTo>
                  <a:pt x="47" y="70"/>
                </a:lnTo>
                <a:lnTo>
                  <a:pt x="54" y="67"/>
                </a:lnTo>
                <a:lnTo>
                  <a:pt x="71" y="63"/>
                </a:lnTo>
                <a:lnTo>
                  <a:pt x="88" y="60"/>
                </a:lnTo>
                <a:lnTo>
                  <a:pt x="105" y="58"/>
                </a:lnTo>
                <a:lnTo>
                  <a:pt x="113" y="57"/>
                </a:lnTo>
                <a:lnTo>
                  <a:pt x="119" y="57"/>
                </a:lnTo>
                <a:lnTo>
                  <a:pt x="125" y="56"/>
                </a:lnTo>
                <a:lnTo>
                  <a:pt x="129" y="56"/>
                </a:lnTo>
                <a:lnTo>
                  <a:pt x="132" y="56"/>
                </a:lnTo>
                <a:lnTo>
                  <a:pt x="133" y="56"/>
                </a:lnTo>
                <a:lnTo>
                  <a:pt x="176" y="59"/>
                </a:lnTo>
                <a:lnTo>
                  <a:pt x="219" y="61"/>
                </a:lnTo>
                <a:lnTo>
                  <a:pt x="262" y="63"/>
                </a:lnTo>
                <a:lnTo>
                  <a:pt x="283" y="65"/>
                </a:lnTo>
                <a:lnTo>
                  <a:pt x="304" y="68"/>
                </a:lnTo>
                <a:lnTo>
                  <a:pt x="311" y="70"/>
                </a:lnTo>
                <a:lnTo>
                  <a:pt x="317" y="72"/>
                </a:lnTo>
                <a:lnTo>
                  <a:pt x="326" y="78"/>
                </a:lnTo>
                <a:lnTo>
                  <a:pt x="332" y="84"/>
                </a:lnTo>
                <a:lnTo>
                  <a:pt x="336" y="89"/>
                </a:lnTo>
                <a:lnTo>
                  <a:pt x="338" y="92"/>
                </a:lnTo>
                <a:lnTo>
                  <a:pt x="339" y="93"/>
                </a:lnTo>
                <a:lnTo>
                  <a:pt x="339" y="92"/>
                </a:lnTo>
                <a:lnTo>
                  <a:pt x="339" y="89"/>
                </a:lnTo>
                <a:lnTo>
                  <a:pt x="339" y="86"/>
                </a:lnTo>
                <a:lnTo>
                  <a:pt x="339" y="81"/>
                </a:lnTo>
                <a:close/>
              </a:path>
            </a:pathLst>
          </a:custGeom>
          <a:noFill/>
          <a:ln w="9360">
            <a:solidFill>
              <a:srgbClr val="cc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5338800" y="2717640"/>
            <a:ext cx="1263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5715000" y="2895480"/>
            <a:ext cx="625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cc"/>
                </a:solidFill>
                <a:latin typeface="Times New Roman"/>
              </a:rPr>
              <a:t>Pa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cc"/>
                </a:solidFill>
                <a:latin typeface="Times New Roman"/>
              </a:rPr>
              <a:t>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4648320" y="3048120"/>
            <a:ext cx="609480" cy="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2516400" y="2438280"/>
            <a:ext cx="41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3278520" y="2438280"/>
            <a:ext cx="41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3811680" y="3733920"/>
            <a:ext cx="41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1832400" y="1371600"/>
            <a:ext cx="122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rcuit-switch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1221120" y="2514600"/>
            <a:ext cx="122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cket-switch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"/>
          <p:cNvSpPr/>
          <p:nvPr/>
        </p:nvSpPr>
        <p:spPr>
          <a:xfrm>
            <a:off x="1848960" y="2133720"/>
            <a:ext cx="5444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UMTS Release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Bearer Independ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ircuit-Switched Domai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LI Architecture and Capab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"/>
          <p:cNvSpPr/>
          <p:nvPr/>
        </p:nvSpPr>
        <p:spPr>
          <a:xfrm>
            <a:off x="2019240" y="2819520"/>
            <a:ext cx="838440" cy="91440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3886200" y="3886200"/>
            <a:ext cx="270504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3467160" y="2971800"/>
            <a:ext cx="0" cy="60948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5372280" y="2971800"/>
            <a:ext cx="0" cy="60948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3390840" y="4038480"/>
            <a:ext cx="990720" cy="83844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 flipH="1">
            <a:off x="4838760" y="4038480"/>
            <a:ext cx="457200" cy="83844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 flipH="1">
            <a:off x="2705040" y="4038480"/>
            <a:ext cx="457200" cy="68580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 flipH="1">
            <a:off x="2933280" y="4038480"/>
            <a:ext cx="2057400" cy="68580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1181160" y="259092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UTR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2590920" y="3733920"/>
            <a:ext cx="12189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SC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4686480" y="3733920"/>
            <a:ext cx="12189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GMSC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1409760" y="4648320"/>
            <a:ext cx="160020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99"/>
                </a:solidFill>
                <a:latin typeface="Times New Roman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99"/>
                </a:solidFill>
                <a:latin typeface="Times New Roman"/>
              </a:rPr>
              <a:t>&amp; 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4152960" y="5029200"/>
            <a:ext cx="8380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H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2362680" y="2438280"/>
            <a:ext cx="47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u/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2096280" y="3251160"/>
            <a:ext cx="32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I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4384080" y="2438280"/>
            <a:ext cx="37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4215240" y="361800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N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3470040" y="3124080"/>
            <a:ext cx="39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5375160" y="3124080"/>
            <a:ext cx="39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2859480" y="4343400"/>
            <a:ext cx="49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C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4230720" y="449568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4992480" y="449568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 flipH="1">
            <a:off x="6972120" y="3200400"/>
            <a:ext cx="228600" cy="38088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6058080" y="4927680"/>
            <a:ext cx="68580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6058080" y="51562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6821640" y="4800600"/>
            <a:ext cx="766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gn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f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6591240" y="3733920"/>
            <a:ext cx="7621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T_SG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3759840" y="409680"/>
            <a:ext cx="162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4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BI-CS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1074600" y="1447920"/>
            <a:ext cx="486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Separation of circuit-switched bearer and call contro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2061720" y="2133720"/>
            <a:ext cx="1342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cket or Circui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2133720" y="274320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3162240" y="2590920"/>
            <a:ext cx="6098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G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3886200" y="2743200"/>
            <a:ext cx="1276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5067360" y="2590920"/>
            <a:ext cx="6094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G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5791320" y="2743200"/>
            <a:ext cx="1181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6515280" y="2362320"/>
            <a:ext cx="160020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PSTN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Legacy, Ext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"/>
          <p:cNvSpPr/>
          <p:nvPr/>
        </p:nvSpPr>
        <p:spPr>
          <a:xfrm>
            <a:off x="3759840" y="409680"/>
            <a:ext cx="162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4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BI-CS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4" name="" descr=""/>
          <p:cNvPicPr/>
          <p:nvPr/>
        </p:nvPicPr>
        <p:blipFill>
          <a:blip r:embed="rId1"/>
          <a:stretch/>
        </p:blipFill>
        <p:spPr>
          <a:xfrm>
            <a:off x="1981080" y="2209680"/>
            <a:ext cx="4829400" cy="2743200"/>
          </a:xfrm>
          <a:prstGeom prst="rect">
            <a:avLst/>
          </a:prstGeom>
          <a:ln w="0">
            <a:noFill/>
          </a:ln>
        </p:spPr>
      </p:pic>
      <p:sp>
        <p:nvSpPr>
          <p:cNvPr id="1305" name=""/>
          <p:cNvSpPr/>
          <p:nvPr/>
        </p:nvSpPr>
        <p:spPr>
          <a:xfrm>
            <a:off x="923040" y="1523880"/>
            <a:ext cx="555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GSN Data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Architecture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Packet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2126520" y="5105520"/>
            <a:ext cx="359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G Packet-Switched Intercept Config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"/>
          <p:cNvSpPr/>
          <p:nvPr/>
        </p:nvSpPr>
        <p:spPr>
          <a:xfrm>
            <a:off x="685800" y="251460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1981080" y="3048120"/>
            <a:ext cx="0" cy="1904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1143000" y="3733920"/>
            <a:ext cx="167652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1523880" y="5029200"/>
            <a:ext cx="8384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1257480" y="2438280"/>
            <a:ext cx="148572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(SGSN, GGS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1295280" y="3200400"/>
            <a:ext cx="5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1493640" y="441972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2135520" y="320040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1142280" y="1828800"/>
            <a:ext cx="195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GSN Content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4114800" y="251460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5486400" y="3048120"/>
            <a:ext cx="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4648320" y="3733920"/>
            <a:ext cx="167616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5029200" y="502920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4762440" y="2438280"/>
            <a:ext cx="148608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(SGSN, GGS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4800600" y="3200400"/>
            <a:ext cx="5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4998960" y="441972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5640480" y="320040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4800960" y="1828800"/>
            <a:ext cx="160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GSN IRI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45720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612000" y="2666880"/>
            <a:ext cx="64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ck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312408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388620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4116600" y="2666880"/>
            <a:ext cx="64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6172200" y="4495680"/>
            <a:ext cx="2438280" cy="163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SGSN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- Mobile Station Attach/Deta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PDP Context Activation/Deactivation </a:t>
            </a: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tart of intercept w/PDP context active </a:t>
            </a: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RA Upd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 GGSN Applicable Ev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2743200" y="4495680"/>
            <a:ext cx="1447920" cy="9345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onten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IP packets: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en-US" sz="1000" spc="-1" strike="noStrike" u="sng">
                <a:solidFill>
                  <a:srgbClr val="ff0000"/>
                </a:solidFill>
                <a:uFillTx/>
                <a:latin typeface="Times New Roman"/>
              </a:rPr>
              <a:t>not</a:t>
            </a:r>
            <a:r>
              <a:rPr b="0" lang="en-US" sz="1000" spc="-1" strike="noStrike">
                <a:solidFill>
                  <a:srgbClr val="ff0000"/>
                </a:solidFill>
                <a:latin typeface="Times New Roman"/>
              </a:rPr>
              <a:t> under control of a call/session Access Management Control functio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1000080" y="1219320"/>
            <a:ext cx="661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fundamental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GSN Data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Capabilitie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Packet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3759840" y="409680"/>
            <a:ext cx="162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4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BI-CS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1982880" y="4343400"/>
            <a:ext cx="570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5552280" y="4343400"/>
            <a:ext cx="59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R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"/>
          <p:cNvSpPr/>
          <p:nvPr/>
        </p:nvSpPr>
        <p:spPr>
          <a:xfrm>
            <a:off x="2209680" y="3048120"/>
            <a:ext cx="2895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3505320" y="3581280"/>
            <a:ext cx="0" cy="190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2666880" y="4267080"/>
            <a:ext cx="1676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3048120" y="556272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2781360" y="2819520"/>
            <a:ext cx="144792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2895480" y="3733920"/>
            <a:ext cx="5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2973240" y="495288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3708720" y="409680"/>
            <a:ext cx="172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99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acket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2514600" y="2133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3G MSC SMS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1981080" y="289548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2209680" y="32004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749160" y="1447920"/>
            <a:ext cx="764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MSC SMS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Architecture or Capabilitie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Circuit-Switched Doma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5067360" y="2819520"/>
            <a:ext cx="144792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M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ervice Cen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3736080" y="4952880"/>
            <a:ext cx="10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SMS 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"/>
          <p:cNvSpPr/>
          <p:nvPr/>
        </p:nvSpPr>
        <p:spPr>
          <a:xfrm>
            <a:off x="2286000" y="169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1" name="" descr=""/>
          <p:cNvPicPr/>
          <p:nvPr/>
        </p:nvPicPr>
        <p:blipFill>
          <a:blip r:embed="rId1"/>
          <a:stretch/>
        </p:blipFill>
        <p:spPr>
          <a:xfrm>
            <a:off x="1828800" y="1828800"/>
            <a:ext cx="4572000" cy="3476520"/>
          </a:xfrm>
          <a:prstGeom prst="rect">
            <a:avLst/>
          </a:prstGeom>
          <a:ln w="0">
            <a:noFill/>
          </a:ln>
        </p:spPr>
      </p:pic>
      <p:sp>
        <p:nvSpPr>
          <p:cNvPr id="1352" name=""/>
          <p:cNvSpPr/>
          <p:nvPr/>
        </p:nvSpPr>
        <p:spPr>
          <a:xfrm>
            <a:off x="215748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2278800" y="5486400"/>
            <a:ext cx="362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G Circuit-Switched Intercept Config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1155240" y="1295280"/>
            <a:ext cx="697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A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ew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3G Circuit-Switched LI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 Architecture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 for R4 (Circuit-Switched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3759840" y="409680"/>
            <a:ext cx="162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4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BI-CS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6705720" y="3429000"/>
            <a:ext cx="1676160" cy="533520"/>
          </a:xfrm>
          <a:prstGeom prst="wedgeRoundRectCallout">
            <a:avLst>
              <a:gd name="adj1" fmla="val -55680"/>
              <a:gd name="adj2" fmla="val 127083"/>
              <a:gd name="adj3" fmla="val 16667"/>
            </a:avLst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Separation of Control and Bear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"/>
          <p:cNvSpPr/>
          <p:nvPr/>
        </p:nvSpPr>
        <p:spPr>
          <a:xfrm>
            <a:off x="685800" y="304812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1981080" y="3581280"/>
            <a:ext cx="0" cy="190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1143000" y="4267080"/>
            <a:ext cx="1676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1523880" y="5562720"/>
            <a:ext cx="8384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1257480" y="2819520"/>
            <a:ext cx="144756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GW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1447920" y="37339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1493640" y="495288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2135520" y="3733920"/>
            <a:ext cx="53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T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989640" y="2209680"/>
            <a:ext cx="207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MGW Content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4114800" y="304812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5486400" y="35812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4648320" y="4267080"/>
            <a:ext cx="167616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5029200" y="556272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4762440" y="2819520"/>
            <a:ext cx="144792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SC, G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4952880" y="37339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4998960" y="495288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4725360" y="2209680"/>
            <a:ext cx="163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MSC IRI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457200" y="289548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537120" y="3124080"/>
            <a:ext cx="734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circu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3124080" y="289548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3886200" y="289548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4116600" y="3124080"/>
            <a:ext cx="646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2819520" y="4952880"/>
            <a:ext cx="1447560" cy="477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onten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ircuit-Switched TD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2135520" y="4952880"/>
            <a:ext cx="53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T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6705720" y="4114800"/>
            <a:ext cx="1752480" cy="20980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all Related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- Call Establish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Answ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upplementary Serv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Hando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Non-Call Related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Location Upd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ubscriber Controlled Inpu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5639760" y="495288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IS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3759840" y="409680"/>
            <a:ext cx="162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4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BI-CS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621000" y="1295280"/>
            <a:ext cx="67320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A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fundamental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Voice Intercept at Acces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VoP at MGW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Voice or IRI Delivery to LEA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MSC Circuit-Switched Doma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"/>
          <p:cNvSpPr/>
          <p:nvPr/>
        </p:nvSpPr>
        <p:spPr>
          <a:xfrm>
            <a:off x="3048120" y="2514600"/>
            <a:ext cx="761760" cy="30492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GW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1371600" y="2514600"/>
            <a:ext cx="762120" cy="30492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GW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838080" y="3276720"/>
            <a:ext cx="990720" cy="30456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SC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3352680" y="3276720"/>
            <a:ext cx="990720" cy="30456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MSC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 flipV="1">
            <a:off x="1523880" y="2819520"/>
            <a:ext cx="0" cy="457200"/>
          </a:xfrm>
          <a:prstGeom prst="line">
            <a:avLst/>
          </a:prstGeom>
          <a:ln cap="rnd" w="28440">
            <a:solidFill>
              <a:srgbClr val="00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 flipV="1">
            <a:off x="3505320" y="2819520"/>
            <a:ext cx="0" cy="457200"/>
          </a:xfrm>
          <a:prstGeom prst="line">
            <a:avLst/>
          </a:prstGeom>
          <a:ln cap="rnd" w="28440">
            <a:solidFill>
              <a:srgbClr val="00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1066680" y="2133720"/>
            <a:ext cx="0" cy="1143000"/>
          </a:xfrm>
          <a:prstGeom prst="line">
            <a:avLst/>
          </a:prstGeom>
          <a:ln cap="rnd" w="28440">
            <a:solidFill>
              <a:srgbClr val="00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3809880" y="2666880"/>
            <a:ext cx="1143000" cy="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3508200" y="2935440"/>
            <a:ext cx="39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1526760" y="2935440"/>
            <a:ext cx="39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2133720" y="2666880"/>
            <a:ext cx="914400" cy="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1523880" y="2133720"/>
            <a:ext cx="0" cy="38088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1828800" y="3429000"/>
            <a:ext cx="1523880" cy="0"/>
          </a:xfrm>
          <a:prstGeom prst="line">
            <a:avLst/>
          </a:prstGeom>
          <a:ln cap="rnd" w="28440">
            <a:solidFill>
              <a:srgbClr val="00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990720" y="129528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914400" y="1828800"/>
            <a:ext cx="8380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TR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1067400" y="2209680"/>
            <a:ext cx="47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Iu/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1" name="" descr=""/>
          <p:cNvPicPr/>
          <p:nvPr/>
        </p:nvPicPr>
        <p:blipFill>
          <a:blip r:embed="rId1"/>
          <a:stretch/>
        </p:blipFill>
        <p:spPr>
          <a:xfrm>
            <a:off x="4572000" y="2209680"/>
            <a:ext cx="1735200" cy="911520"/>
          </a:xfrm>
          <a:prstGeom prst="rect">
            <a:avLst/>
          </a:prstGeom>
          <a:ln w="0">
            <a:noFill/>
          </a:ln>
        </p:spPr>
      </p:pic>
      <p:sp>
        <p:nvSpPr>
          <p:cNvPr id="1402" name=""/>
          <p:cNvSpPr/>
          <p:nvPr/>
        </p:nvSpPr>
        <p:spPr>
          <a:xfrm>
            <a:off x="2209680" y="4876920"/>
            <a:ext cx="0" cy="609480"/>
          </a:xfrm>
          <a:prstGeom prst="line">
            <a:avLst/>
          </a:prstGeom>
          <a:ln cap="rnd" w="28440">
            <a:solidFill>
              <a:srgbClr val="ff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2514600" y="4876920"/>
            <a:ext cx="0" cy="68580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2133720" y="3048120"/>
            <a:ext cx="0" cy="144756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1828800" y="3809880"/>
            <a:ext cx="76320" cy="685800"/>
          </a:xfrm>
          <a:prstGeom prst="line">
            <a:avLst/>
          </a:prstGeom>
          <a:ln cap="rnd" w="28440">
            <a:solidFill>
              <a:srgbClr val="ff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 flipH="1">
            <a:off x="2819520" y="3809880"/>
            <a:ext cx="457200" cy="685800"/>
          </a:xfrm>
          <a:prstGeom prst="line">
            <a:avLst/>
          </a:prstGeom>
          <a:ln cap="rnd" w="28440">
            <a:solidFill>
              <a:srgbClr val="ff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 flipH="1">
            <a:off x="2590920" y="3048120"/>
            <a:ext cx="457200" cy="144756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1752480" y="4495680"/>
            <a:ext cx="129564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D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1981080" y="5410080"/>
            <a:ext cx="7621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L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1676520" y="3505320"/>
            <a:ext cx="30456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1981080" y="27432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3200400" y="350532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1677960" y="50292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2592360" y="50292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1449720" y="3962520"/>
            <a:ext cx="41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2135520" y="3124080"/>
            <a:ext cx="41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3125880" y="3962520"/>
            <a:ext cx="41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2440080" y="3581280"/>
            <a:ext cx="41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2895480" y="27432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2439360" y="2362320"/>
            <a:ext cx="37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N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1219320" y="160020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3329280" y="409680"/>
            <a:ext cx="2486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4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BI-CS Domain - Summ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3" name=""/>
          <p:cNvGraphicFramePr/>
          <p:nvPr/>
        </p:nvGraphicFramePr>
        <p:xfrm>
          <a:off x="3886200" y="3962520"/>
          <a:ext cx="4648320" cy="1950840"/>
        </p:xfrm>
        <a:graphic>
          <a:graphicData uri="http://schemas.openxmlformats.org/drawingml/2006/table">
            <a:tbl>
              <a:tblPr/>
              <a:tblGrid>
                <a:gridCol w="1066680"/>
                <a:gridCol w="1752840"/>
                <a:gridCol w="1828800"/>
              </a:tblGrid>
              <a:tr h="515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nt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-3 and HI-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-2 and HI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71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SC, GMS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er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ircuit-Switched Ev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dition 1 - Annex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71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GW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ircuit-Switched Vo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S 201 67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dition 1 - Annex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495360" y="1523880"/>
          <a:ext cx="8153280" cy="3962520"/>
        </p:xfrm>
        <a:graphic>
          <a:graphicData uri="http://schemas.openxmlformats.org/drawingml/2006/table">
            <a:tbl>
              <a:tblPr/>
              <a:tblGrid>
                <a:gridCol w="914400"/>
                <a:gridCol w="1104840"/>
                <a:gridCol w="1219320"/>
                <a:gridCol w="3429000"/>
                <a:gridCol w="1485720"/>
              </a:tblGrid>
              <a:tr h="605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GP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3.1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ers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3.1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ers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ew in UM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mple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83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lease 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3.1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12-1999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3.1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12-2000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S Domain (Iu-P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- ATM Network Acce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- Interception of packet da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omplet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and Publish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90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lease 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V4.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(03-2001)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V4.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(03-2001)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Bearer Independent Circuit-Switched Core Networ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- Separation of bearer and call contro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- Content interception @ Media Gatew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omple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* Publish 12-2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1121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lease 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V5.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(12-2001)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V5.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(12-2001)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ulti-Media Domain (All IP Network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- Call State Control Function (CSCF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- SIP Call/Session Contro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- Real Time Multi-Media Services other than vo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In Progre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** Final Relea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03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quirem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tage 1 and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Access-to-DF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2534760" y="441360"/>
            <a:ext cx="407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LI Capabilities and UMTS Rele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"/>
          <p:cNvSpPr/>
          <p:nvPr/>
        </p:nvSpPr>
        <p:spPr>
          <a:xfrm>
            <a:off x="1696680" y="2340000"/>
            <a:ext cx="5444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UMTS Release 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Multi-Media Domai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LI Architecture and Capab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"/>
          <p:cNvSpPr/>
          <p:nvPr/>
        </p:nvSpPr>
        <p:spPr>
          <a:xfrm>
            <a:off x="3352680" y="3352680"/>
            <a:ext cx="0" cy="9907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3733920" y="3276720"/>
            <a:ext cx="121896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5181480" y="3276720"/>
            <a:ext cx="0" cy="99036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5638680" y="3200400"/>
            <a:ext cx="990720" cy="3049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1295280" y="4343400"/>
            <a:ext cx="9144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UTR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2439000" y="4191120"/>
            <a:ext cx="32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2898000" y="36576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4023720" y="4227480"/>
            <a:ext cx="38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5946120" y="3048120"/>
            <a:ext cx="45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4192560" y="29718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C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4802400" y="365760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1371600" y="5079960"/>
            <a:ext cx="68580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1371600" y="530856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2135520" y="4952880"/>
            <a:ext cx="766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gn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f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4800600" y="3048120"/>
            <a:ext cx="7621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CSC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3558600" y="409680"/>
            <a:ext cx="202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1590480" y="1600200"/>
            <a:ext cx="59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SIP controlled multi-media services via GSN data network elem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(Multi-Media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5869080" y="396252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3657600" y="3352680"/>
            <a:ext cx="1371600" cy="106704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2971800" y="3124080"/>
            <a:ext cx="8380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H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3888720" y="37339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2286000" y="449568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2971800" y="4343400"/>
            <a:ext cx="6858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3733920" y="449568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4800600" y="4343400"/>
            <a:ext cx="6858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G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 flipV="1">
            <a:off x="5562720" y="3962520"/>
            <a:ext cx="121896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6324480" y="3352680"/>
            <a:ext cx="1600200" cy="838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cc"/>
                </a:solidFill>
                <a:latin typeface="Times New Roman"/>
              </a:rPr>
              <a:t>MultiMe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cc"/>
                </a:solidFill>
                <a:latin typeface="Times New Roman"/>
              </a:rPr>
              <a:t>IP 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5867280" y="2438280"/>
            <a:ext cx="1143000" cy="304920"/>
          </a:xfrm>
          <a:prstGeom prst="wedgeRoundRectCallout">
            <a:avLst>
              <a:gd name="adj1" fmla="val -60416"/>
              <a:gd name="adj2" fmla="val 136458"/>
              <a:gd name="adj3" fmla="val 16667"/>
            </a:avLst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SIP 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"/>
          <p:cNvSpPr/>
          <p:nvPr/>
        </p:nvSpPr>
        <p:spPr>
          <a:xfrm>
            <a:off x="685800" y="4038480"/>
            <a:ext cx="8380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UTR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1829520" y="3886200"/>
            <a:ext cx="32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2212200" y="33526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3337920" y="3922560"/>
            <a:ext cx="38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5107680" y="2666880"/>
            <a:ext cx="40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3506760" y="25909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C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4116600" y="335268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762120" y="4851360"/>
            <a:ext cx="68580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762120" y="507996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1525680" y="4724280"/>
            <a:ext cx="766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gn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f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3558600" y="409680"/>
            <a:ext cx="202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946800" y="1600200"/>
            <a:ext cx="7248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SIP controlled VoIP directed to circuit-switched PSTN domain via Media-Gateway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(Multi-Media Domain to Circuit-Switched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4802400" y="449568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3202920" y="34290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5794200" y="4038480"/>
            <a:ext cx="39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1600200" y="41911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2286000" y="4038480"/>
            <a:ext cx="6094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2971800" y="419112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4191120" y="4038480"/>
            <a:ext cx="6094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G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2666880" y="3048120"/>
            <a:ext cx="0" cy="91440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2286000" y="2819520"/>
            <a:ext cx="8380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H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4495680" y="2971800"/>
            <a:ext cx="0" cy="9907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3200400" y="2971800"/>
            <a:ext cx="1219320" cy="9907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3200400" y="2895480"/>
            <a:ext cx="114300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4114800" y="274320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CSC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4952880" y="2895480"/>
            <a:ext cx="762120" cy="22860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5715000" y="3505320"/>
            <a:ext cx="0" cy="121896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5410080" y="3124080"/>
            <a:ext cx="6858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GC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6172200" y="3276720"/>
            <a:ext cx="685800" cy="38088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7238880" y="3886200"/>
            <a:ext cx="228600" cy="5335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6858000" y="350532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T-SG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4876920" y="4191120"/>
            <a:ext cx="76176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5257800" y="4800600"/>
            <a:ext cx="7621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G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6095880" y="495288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6629400" y="4495680"/>
            <a:ext cx="1600200" cy="838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cc"/>
                </a:solidFill>
                <a:latin typeface="Times New Roman"/>
              </a:rPr>
              <a:t>PSTN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cc"/>
                </a:solidFill>
                <a:latin typeface="Times New Roman"/>
              </a:rPr>
              <a:t>Legacy, Ext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cc"/>
                </a:solidFill>
                <a:latin typeface="Times New Roman"/>
              </a:rPr>
              <a:t>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"/>
          <p:cNvSpPr/>
          <p:nvPr/>
        </p:nvSpPr>
        <p:spPr>
          <a:xfrm>
            <a:off x="3558600" y="409680"/>
            <a:ext cx="202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9" name="" descr=""/>
          <p:cNvPicPr/>
          <p:nvPr/>
        </p:nvPicPr>
        <p:blipFill>
          <a:blip r:embed="rId1"/>
          <a:stretch/>
        </p:blipFill>
        <p:spPr>
          <a:xfrm>
            <a:off x="1828800" y="2209680"/>
            <a:ext cx="4829040" cy="2743200"/>
          </a:xfrm>
          <a:prstGeom prst="rect">
            <a:avLst/>
          </a:prstGeom>
          <a:ln w="0">
            <a:noFill/>
          </a:ln>
        </p:spPr>
      </p:pic>
      <p:sp>
        <p:nvSpPr>
          <p:cNvPr id="1490" name=""/>
          <p:cNvSpPr/>
          <p:nvPr/>
        </p:nvSpPr>
        <p:spPr>
          <a:xfrm>
            <a:off x="923040" y="1523880"/>
            <a:ext cx="554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GSN Data LI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 Architecture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Packet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2050560" y="5105520"/>
            <a:ext cx="358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G Packet Switched Intercept Config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"/>
          <p:cNvSpPr/>
          <p:nvPr/>
        </p:nvSpPr>
        <p:spPr>
          <a:xfrm>
            <a:off x="685800" y="251460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1981080" y="3048120"/>
            <a:ext cx="0" cy="1904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1143000" y="3733920"/>
            <a:ext cx="167652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1523880" y="5029200"/>
            <a:ext cx="8384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1257480" y="2438280"/>
            <a:ext cx="148572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(SGSN, GGS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1295280" y="3200400"/>
            <a:ext cx="5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1493640" y="441972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2135520" y="320040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1142280" y="1828800"/>
            <a:ext cx="195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GSN Content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4114800" y="251460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5486400" y="3048120"/>
            <a:ext cx="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4648320" y="3733920"/>
            <a:ext cx="167616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5029200" y="502920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4762440" y="2438280"/>
            <a:ext cx="148608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(SGSN, GGS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4800600" y="3200400"/>
            <a:ext cx="5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4998960" y="441972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5640480" y="320040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4800960" y="1828800"/>
            <a:ext cx="160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GSN IRI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45720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612000" y="2666880"/>
            <a:ext cx="64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ck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312408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388620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4116600" y="2666880"/>
            <a:ext cx="64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6172200" y="4495680"/>
            <a:ext cx="2438280" cy="163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SGSN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- Mobile Station Attach/Deta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PDP Context Activation/Deactivation </a:t>
            </a: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tart of intercept w/PDP context active </a:t>
            </a: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RA Upd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 GGSN Applicable Ev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2743200" y="4495680"/>
            <a:ext cx="1447920" cy="9345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onten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IP packets: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en-US" sz="1000" spc="-1" strike="noStrike" u="sng">
                <a:solidFill>
                  <a:srgbClr val="ff0000"/>
                </a:solidFill>
                <a:uFillTx/>
                <a:latin typeface="Times New Roman"/>
              </a:rPr>
              <a:t>not</a:t>
            </a:r>
            <a:r>
              <a:rPr b="0" lang="en-US" sz="1000" spc="-1" strike="noStrike">
                <a:solidFill>
                  <a:srgbClr val="ff0000"/>
                </a:solidFill>
                <a:latin typeface="Times New Roman"/>
              </a:rPr>
              <a:t> under control of a call/session Access Management Control functio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1000080" y="1219320"/>
            <a:ext cx="661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fundamental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GSN Data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Capabilitie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Packet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3558600" y="409680"/>
            <a:ext cx="202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1982880" y="4343400"/>
            <a:ext cx="570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5552280" y="4343400"/>
            <a:ext cx="59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R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"/>
          <p:cNvSpPr/>
          <p:nvPr/>
        </p:nvSpPr>
        <p:spPr>
          <a:xfrm>
            <a:off x="2286000" y="169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2" name="" descr=""/>
          <p:cNvPicPr/>
          <p:nvPr/>
        </p:nvPicPr>
        <p:blipFill>
          <a:blip r:embed="rId1"/>
          <a:stretch/>
        </p:blipFill>
        <p:spPr>
          <a:xfrm>
            <a:off x="1828800" y="1981080"/>
            <a:ext cx="4572000" cy="3476880"/>
          </a:xfrm>
          <a:prstGeom prst="rect">
            <a:avLst/>
          </a:prstGeom>
          <a:ln w="0">
            <a:noFill/>
          </a:ln>
        </p:spPr>
      </p:pic>
      <p:sp>
        <p:nvSpPr>
          <p:cNvPr id="1523" name=""/>
          <p:cNvSpPr/>
          <p:nvPr/>
        </p:nvSpPr>
        <p:spPr>
          <a:xfrm>
            <a:off x="215748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810360" y="1447920"/>
            <a:ext cx="752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BI-CS Circuit-Switched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Architecture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Circuit-Switched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3558600" y="409680"/>
            <a:ext cx="202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2278800" y="5638680"/>
            <a:ext cx="362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G Circuit-Switched Intercept Config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6705720" y="3429000"/>
            <a:ext cx="1676160" cy="533520"/>
          </a:xfrm>
          <a:prstGeom prst="wedgeRoundRectCallout">
            <a:avLst>
              <a:gd name="adj1" fmla="val -55680"/>
              <a:gd name="adj2" fmla="val 127083"/>
              <a:gd name="adj3" fmla="val 16667"/>
            </a:avLst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Separation of Control and Bear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"/>
          <p:cNvSpPr/>
          <p:nvPr/>
        </p:nvSpPr>
        <p:spPr>
          <a:xfrm>
            <a:off x="685800" y="304812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1981080" y="3581280"/>
            <a:ext cx="0" cy="190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1143000" y="4267080"/>
            <a:ext cx="1676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1523880" y="5562720"/>
            <a:ext cx="8384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1257480" y="2819520"/>
            <a:ext cx="144756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GW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1447920" y="37339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1493640" y="495288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2135520" y="3733920"/>
            <a:ext cx="53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T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989640" y="2209680"/>
            <a:ext cx="207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MGW Content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4114800" y="304812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5486400" y="35812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4648320" y="4267080"/>
            <a:ext cx="167616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5029200" y="556272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4762440" y="2819520"/>
            <a:ext cx="144792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SC, G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4952880" y="37339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4998960" y="495288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4725360" y="2209680"/>
            <a:ext cx="163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MSC IRI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457200" y="289548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3124080" y="289548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3886200" y="289548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4116600" y="3124080"/>
            <a:ext cx="646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2819520" y="4952880"/>
            <a:ext cx="1447560" cy="477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onten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ircuit-Switched TD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2135520" y="4952880"/>
            <a:ext cx="53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T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6705720" y="4114800"/>
            <a:ext cx="1752480" cy="20980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all Related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- Call Establish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Answ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upplementary Serv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Hando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Non-Call Related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Location Upd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ubscriber Controlled Inpu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5639760" y="495288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IS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3759840" y="409680"/>
            <a:ext cx="162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4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BI-CS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850320" y="1523880"/>
            <a:ext cx="712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BI-CS Circuit-Switched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Capabilitie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Circuit-Switched Doma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537120" y="3124080"/>
            <a:ext cx="734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circu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"/>
          <p:cNvSpPr/>
          <p:nvPr/>
        </p:nvSpPr>
        <p:spPr>
          <a:xfrm>
            <a:off x="2286000" y="169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215748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8" name="" descr=""/>
          <p:cNvPicPr/>
          <p:nvPr/>
        </p:nvPicPr>
        <p:blipFill>
          <a:blip r:embed="rId1"/>
          <a:stretch/>
        </p:blipFill>
        <p:spPr>
          <a:xfrm>
            <a:off x="1905120" y="2286000"/>
            <a:ext cx="4829040" cy="2743200"/>
          </a:xfrm>
          <a:prstGeom prst="rect">
            <a:avLst/>
          </a:prstGeom>
          <a:ln w="0">
            <a:noFill/>
          </a:ln>
        </p:spPr>
      </p:pic>
      <p:sp>
        <p:nvSpPr>
          <p:cNvPr id="1559" name=""/>
          <p:cNvSpPr/>
          <p:nvPr/>
        </p:nvSpPr>
        <p:spPr>
          <a:xfrm>
            <a:off x="2431440" y="5257800"/>
            <a:ext cx="358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G Packet Switched Intercept Config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943200" y="1447920"/>
            <a:ext cx="617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ew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3G Multi-Media Services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Architecture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Multi-Media Doma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3558600" y="409680"/>
            <a:ext cx="202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6705720" y="3429000"/>
            <a:ext cx="1218960" cy="457200"/>
          </a:xfrm>
          <a:prstGeom prst="wedgeRoundRectCallout">
            <a:avLst>
              <a:gd name="adj1" fmla="val -57814"/>
              <a:gd name="adj2" fmla="val -137847"/>
              <a:gd name="adj3" fmla="val 16667"/>
            </a:avLst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Reporting S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Sign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"/>
          <p:cNvSpPr/>
          <p:nvPr/>
        </p:nvSpPr>
        <p:spPr>
          <a:xfrm>
            <a:off x="262908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285264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0" y="247644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3558600" y="409680"/>
            <a:ext cx="202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914400" y="289548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2209680" y="3429000"/>
            <a:ext cx="0" cy="190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1371600" y="4114800"/>
            <a:ext cx="1676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1752480" y="5410080"/>
            <a:ext cx="83844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1486080" y="2666880"/>
            <a:ext cx="144756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(SGSN, GGS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1671480" y="3581280"/>
            <a:ext cx="5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1601640" y="48006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1369800" y="1981080"/>
            <a:ext cx="183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GSN Session Delive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4724280" y="289548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6095880" y="34290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5257800" y="4114800"/>
            <a:ext cx="1676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5638680" y="5410080"/>
            <a:ext cx="83844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5372280" y="2666880"/>
            <a:ext cx="144756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CSC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5562720" y="3581280"/>
            <a:ext cx="5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5487840" y="48006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5334840" y="1981080"/>
            <a:ext cx="170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CSCF IRI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685800" y="274320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843480" y="3048120"/>
            <a:ext cx="663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3352680" y="274320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4495680" y="274320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4726080" y="3048120"/>
            <a:ext cx="646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7010280" y="4800600"/>
            <a:ext cx="1524240" cy="477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Session Related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- SIP Sign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6707160" y="49528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6250320" y="3581280"/>
            <a:ext cx="68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2440080" y="35812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2744640" y="49528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3124080" y="4800600"/>
            <a:ext cx="1752840" cy="1013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onten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Times New Roman"/>
              </a:rPr>
              <a:t>Subject-Associate Real Time communication  under control of CSC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Times New Roman"/>
              </a:rPr>
              <a:t>VoIP, Video, Messaging, et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1156320" y="1371600"/>
            <a:ext cx="611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ew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3G Multi-Media Services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Capabilitie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Multi-Media Doma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7162920" y="2819520"/>
            <a:ext cx="1218960" cy="457200"/>
          </a:xfrm>
          <a:prstGeom prst="wedgeRoundRectCallout">
            <a:avLst>
              <a:gd name="adj1" fmla="val -64064"/>
              <a:gd name="adj2" fmla="val 120486"/>
              <a:gd name="adj3" fmla="val 16667"/>
            </a:avLst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Reporting S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Sign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2287800" y="4800600"/>
            <a:ext cx="570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6172920" y="4800600"/>
            <a:ext cx="59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R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"/>
          <p:cNvSpPr/>
          <p:nvPr/>
        </p:nvSpPr>
        <p:spPr>
          <a:xfrm>
            <a:off x="685800" y="396252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UTR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1829520" y="3809880"/>
            <a:ext cx="32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2212200" y="3276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3337920" y="3846600"/>
            <a:ext cx="38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5107680" y="2590920"/>
            <a:ext cx="40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3506760" y="25146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C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4116600" y="327672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685800" y="4699080"/>
            <a:ext cx="68580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685800" y="49528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1449720" y="4572000"/>
            <a:ext cx="766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gn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f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3558600" y="409680"/>
            <a:ext cx="202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849960" y="1371600"/>
            <a:ext cx="5821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SIP controlled VoIP directed to circuit-switched PSTN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(treated as packet intercepts and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t a circuit-switched intercept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4802400" y="441972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3202920" y="33526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>
            <a:off x="5870160" y="3962520"/>
            <a:ext cx="39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1600200" y="41148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2286000" y="3962520"/>
            <a:ext cx="6094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2971800" y="411480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4191120" y="3962520"/>
            <a:ext cx="6094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G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2666880" y="2971800"/>
            <a:ext cx="0" cy="91440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2286000" y="2743200"/>
            <a:ext cx="8380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H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4495680" y="2895480"/>
            <a:ext cx="0" cy="9907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>
            <a:off x="3200400" y="2895480"/>
            <a:ext cx="1219320" cy="9907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3200400" y="2819520"/>
            <a:ext cx="114300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4114800" y="266688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CSC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4952880" y="2819520"/>
            <a:ext cx="762120" cy="22860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5715000" y="3429000"/>
            <a:ext cx="0" cy="12193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5410080" y="3048120"/>
            <a:ext cx="6858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GC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6172200" y="3200400"/>
            <a:ext cx="685800" cy="38088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7238880" y="3809880"/>
            <a:ext cx="228600" cy="5335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6858000" y="342900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T-SG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2743200" y="4267080"/>
            <a:ext cx="380880" cy="3812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I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4648320" y="2895480"/>
            <a:ext cx="380880" cy="3812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I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4876920" y="4114800"/>
            <a:ext cx="68580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5257800" y="4724280"/>
            <a:ext cx="7621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G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>
            <a:off x="6095880" y="48769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6629400" y="4419720"/>
            <a:ext cx="160020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imes New Roman"/>
              </a:rPr>
              <a:t>PSTN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imes New Roman"/>
              </a:rPr>
              <a:t>Legacy, Ext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imes New Roman"/>
              </a:rPr>
              <a:t>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3809880" y="5410080"/>
            <a:ext cx="2133720" cy="533520"/>
          </a:xfrm>
          <a:prstGeom prst="wedgeRoundRectCallout">
            <a:avLst>
              <a:gd name="adj1" fmla="val 57365"/>
              <a:gd name="adj2" fmla="val -141370"/>
              <a:gd name="adj3" fmla="val 16667"/>
            </a:avLst>
          </a:prstGeom>
          <a:noFill/>
          <a:ln w="9360">
            <a:solidFill>
              <a:srgbClr val="ff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3399"/>
                </a:solidFill>
                <a:latin typeface="Times New Roman"/>
              </a:rPr>
              <a:t>VoIP not intercepted as circuit-switched voice</a:t>
            </a:r>
            <a:r>
              <a:rPr b="0" lang="en-US" sz="1400" spc="-1" strike="noStrike">
                <a:solidFill>
                  <a:srgbClr val="ff3399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2895480" y="4648320"/>
            <a:ext cx="0" cy="152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2971800" y="4648320"/>
            <a:ext cx="0" cy="152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4800600" y="3276720"/>
            <a:ext cx="0" cy="152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4876920" y="3276720"/>
            <a:ext cx="0" cy="152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046320" y="380880"/>
            <a:ext cx="282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UMTS Reference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914400"/>
            <a:ext cx="8610480" cy="510552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00160" y="1066680"/>
            <a:ext cx="8528400" cy="4700880"/>
            <a:chOff x="200160" y="1066680"/>
            <a:chExt cx="8528400" cy="4700880"/>
          </a:xfrm>
        </p:grpSpPr>
        <p:sp>
          <p:nvSpPr>
            <p:cNvPr id="47" name=""/>
            <p:cNvSpPr/>
            <p:nvPr/>
          </p:nvSpPr>
          <p:spPr>
            <a:xfrm>
              <a:off x="6159600" y="3735360"/>
              <a:ext cx="36972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39960" y="5765760"/>
              <a:ext cx="10800" cy="1800"/>
            </a:xfrm>
            <a:custGeom>
              <a:avLst/>
              <a:gdLst/>
              <a:ahLst/>
              <a:rect l="l" t="t" r="r" b="b"/>
              <a:pathLst>
                <a:path w="7" h="0">
                  <a:moveTo>
                    <a:pt x="7" y="0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984240" y="5765760"/>
              <a:ext cx="9720" cy="180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103400" y="5765760"/>
              <a:ext cx="11160" cy="1800"/>
            </a:xfrm>
            <a:custGeom>
              <a:avLst/>
              <a:gdLst/>
              <a:ahLst/>
              <a:rect l="l" t="t" r="r" b="b"/>
              <a:pathLst>
                <a:path w="7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179360" y="5765760"/>
              <a:ext cx="9720" cy="180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065480" y="2835360"/>
              <a:ext cx="1800" cy="11160"/>
            </a:xfrm>
            <a:custGeom>
              <a:avLst/>
              <a:gdLst/>
              <a:ahLst/>
              <a:rect l="l" t="t" r="r" b="b"/>
              <a:pathLst>
                <a:path w="0" h="7">
                  <a:moveTo>
                    <a:pt x="0" y="7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956120" y="2954160"/>
              <a:ext cx="18432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809640" y="1066680"/>
              <a:ext cx="6868800" cy="4503600"/>
              <a:chOff x="809640" y="1066680"/>
              <a:chExt cx="6868800" cy="4503600"/>
            </a:xfrm>
          </p:grpSpPr>
          <p:sp>
            <p:nvSpPr>
              <p:cNvPr id="55" name=""/>
              <p:cNvSpPr/>
              <p:nvPr/>
            </p:nvSpPr>
            <p:spPr>
              <a:xfrm>
                <a:off x="3662280" y="3019680"/>
                <a:ext cx="165240" cy="19800"/>
              </a:xfrm>
              <a:custGeom>
                <a:avLst/>
                <a:gdLst/>
                <a:ahLst/>
                <a:rect l="l" t="t" r="r" b="b"/>
                <a:pathLst>
                  <a:path w="103" h="13">
                    <a:moveTo>
                      <a:pt x="103" y="6"/>
                    </a:moveTo>
                    <a:lnTo>
                      <a:pt x="103" y="0"/>
                    </a:lnTo>
                    <a:lnTo>
                      <a:pt x="0" y="0"/>
                    </a:lnTo>
                    <a:lnTo>
                      <a:pt x="0" y="13"/>
                    </a:lnTo>
                    <a:lnTo>
                      <a:pt x="103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3728160" y="2892240"/>
                <a:ext cx="29664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3793680" y="2903040"/>
                <a:ext cx="21960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3793680" y="2903040"/>
                <a:ext cx="19764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3793680" y="2913840"/>
                <a:ext cx="15408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3793680" y="2924640"/>
                <a:ext cx="15408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793680" y="2924640"/>
                <a:ext cx="20880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3792960" y="2924640"/>
                <a:ext cx="1350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f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111640" y="2955240"/>
                <a:ext cx="185760" cy="14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5132520" y="2976840"/>
                <a:ext cx="1875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132520" y="2976840"/>
                <a:ext cx="1875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5132520" y="2976840"/>
                <a:ext cx="14292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132520" y="2987640"/>
                <a:ext cx="14292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5132520" y="2998080"/>
                <a:ext cx="1990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5132160" y="2998080"/>
                <a:ext cx="127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011920" y="161136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011920" y="16221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5011920" y="16329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5011920" y="16437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5011920" y="16653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5011920" y="167436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5011920" y="168516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5011920" y="16959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5011920" y="17067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5011920" y="17175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5011920" y="17283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5011920" y="17481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5011920" y="17481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5011920" y="17697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5011920" y="17805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011920" y="17910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011920" y="1801800"/>
                <a:ext cx="1116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5011920" y="18115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5011920" y="18223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5011920" y="18327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5011920" y="185436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5011920" y="18651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5011920" y="18745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3706920" y="1611360"/>
                <a:ext cx="11160" cy="42840"/>
              </a:xfrm>
              <a:custGeom>
                <a:avLst/>
                <a:gdLst/>
                <a:ahLst/>
                <a:rect l="l" t="t" r="r" b="b"/>
                <a:pathLst>
                  <a:path w="7" h="28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3706920" y="16743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3706920" y="170676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706920" y="176976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3706920" y="1811520"/>
                <a:ext cx="11160" cy="42480"/>
              </a:xfrm>
              <a:custGeom>
                <a:avLst/>
                <a:gdLst/>
                <a:ahLst/>
                <a:rect l="l" t="t" r="r" b="b"/>
                <a:pathLst>
                  <a:path w="7" h="28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3706920" y="186516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6"/>
                    </a:move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3706920" y="190656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3706920" y="196956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3706920" y="2000160"/>
                <a:ext cx="11160" cy="53280"/>
              </a:xfrm>
              <a:custGeom>
                <a:avLst/>
                <a:gdLst/>
                <a:ahLst/>
                <a:rect l="l" t="t" r="r" b="b"/>
                <a:pathLst>
                  <a:path w="7" h="35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35"/>
                    </a:lnTo>
                    <a:lnTo>
                      <a:pt x="7" y="35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3706920" y="206316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3706920" y="210600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706920" y="21690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3706920" y="2199600"/>
                <a:ext cx="11160" cy="42840"/>
              </a:xfrm>
              <a:custGeom>
                <a:avLst/>
                <a:gdLst/>
                <a:ahLst/>
                <a:rect l="l" t="t" r="r" b="b"/>
                <a:pathLst>
                  <a:path w="7" h="28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706920" y="22626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3706920" y="229500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2543040" y="3523680"/>
                <a:ext cx="12024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2543040" y="3532680"/>
                <a:ext cx="12024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3040" y="3543480"/>
                <a:ext cx="17496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2542320" y="354348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44400" y="2599200"/>
                <a:ext cx="28548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1080" y="2610000"/>
                <a:ext cx="20880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121080" y="2620800"/>
                <a:ext cx="18612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6121080" y="2620800"/>
                <a:ext cx="14292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6121080" y="2631600"/>
                <a:ext cx="142920" cy="15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6121080" y="2640600"/>
                <a:ext cx="1976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121080" y="2640600"/>
                <a:ext cx="127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066640" y="2568240"/>
                <a:ext cx="27432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123160" y="2588400"/>
                <a:ext cx="24048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123160" y="2588400"/>
                <a:ext cx="2178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123160" y="2588400"/>
                <a:ext cx="16344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5123160" y="2599200"/>
                <a:ext cx="2178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123160" y="2610000"/>
                <a:ext cx="2178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123160" y="2610000"/>
                <a:ext cx="1486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352480" y="3354480"/>
                <a:ext cx="285480" cy="178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5429520" y="3365280"/>
                <a:ext cx="20844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429520" y="3376080"/>
                <a:ext cx="1857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429520" y="3376080"/>
                <a:ext cx="1425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5429520" y="3386880"/>
                <a:ext cx="14256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5429520" y="3397680"/>
                <a:ext cx="1972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429160" y="3397680"/>
                <a:ext cx="127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81240" y="1517760"/>
                <a:ext cx="43200" cy="30960"/>
              </a:xfrm>
              <a:custGeom>
                <a:avLst/>
                <a:gdLst/>
                <a:ahLst/>
                <a:rect l="l" t="t" r="r" b="b"/>
                <a:pathLst>
                  <a:path w="27" h="20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035960" y="15699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058640" y="1591560"/>
                <a:ext cx="43200" cy="30600"/>
              </a:xfrm>
              <a:custGeom>
                <a:avLst/>
                <a:gdLst/>
                <a:ahLst/>
                <a:rect l="l" t="t" r="r" b="b"/>
                <a:pathLst>
                  <a:path w="27" h="20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7" y="20"/>
                    </a:lnTo>
                    <a:lnTo>
                      <a:pt x="27" y="13"/>
                    </a:lnTo>
                    <a:lnTo>
                      <a:pt x="20" y="13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101840" y="163296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14"/>
                    </a:lnTo>
                    <a:lnTo>
                      <a:pt x="14" y="14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133880" y="1665360"/>
                <a:ext cx="33840" cy="3060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178880" y="170676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199760" y="1728360"/>
                <a:ext cx="44640" cy="30600"/>
              </a:xfrm>
              <a:custGeom>
                <a:avLst/>
                <a:gdLst/>
                <a:ahLst/>
                <a:rect l="l" t="t" r="r" b="b"/>
                <a:pathLst>
                  <a:path w="28" h="20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8" y="20"/>
                    </a:lnTo>
                    <a:lnTo>
                      <a:pt x="21" y="2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255920" y="1769760"/>
                <a:ext cx="9720" cy="21240"/>
              </a:xfrm>
              <a:custGeom>
                <a:avLst/>
                <a:gdLst/>
                <a:ahLst/>
                <a:rect l="l" t="t" r="r" b="b"/>
                <a:pathLst>
                  <a:path w="6" h="14">
                    <a:moveTo>
                      <a:pt x="0" y="7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277160" y="1801800"/>
                <a:ext cx="33480" cy="3060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321800" y="184356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353840" y="1865160"/>
                <a:ext cx="33840" cy="41400"/>
              </a:xfrm>
              <a:custGeom>
                <a:avLst/>
                <a:gdLst/>
                <a:ahLst/>
                <a:rect l="l" t="t" r="r" b="b"/>
                <a:pathLst>
                  <a:path w="21" h="27">
                    <a:moveTo>
                      <a:pt x="0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4" y="20"/>
                    </a:lnTo>
                    <a:lnTo>
                      <a:pt x="14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397040" y="19173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419720" y="1937160"/>
                <a:ext cx="33840" cy="3204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4462920" y="1980360"/>
                <a:ext cx="22320" cy="1980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14" y="13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496760" y="2010960"/>
                <a:ext cx="31680" cy="3204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4540320" y="2053800"/>
                <a:ext cx="22320" cy="936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7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4573800" y="2073960"/>
                <a:ext cx="32040" cy="3168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17360" y="2116800"/>
                <a:ext cx="10800" cy="2016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6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6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39680" y="2147400"/>
                <a:ext cx="31680" cy="3204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1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682880" y="21891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716720" y="2221200"/>
                <a:ext cx="3168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759920" y="22626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4782600" y="2284200"/>
                <a:ext cx="3168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737600" y="1969560"/>
                <a:ext cx="28548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4793760" y="1991160"/>
                <a:ext cx="251640" cy="19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793760" y="1991160"/>
                <a:ext cx="22932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793760" y="1991160"/>
                <a:ext cx="19728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793760" y="2000160"/>
                <a:ext cx="25164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793760" y="2010960"/>
                <a:ext cx="2404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4793760" y="2010960"/>
                <a:ext cx="16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453560" y="2599200"/>
                <a:ext cx="28368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4528800" y="2610000"/>
                <a:ext cx="21960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4528800" y="2620800"/>
                <a:ext cx="1990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528800" y="2620800"/>
                <a:ext cx="15372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528800" y="2631600"/>
                <a:ext cx="153720" cy="15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4528800" y="2640600"/>
                <a:ext cx="2084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528440" y="2640600"/>
                <a:ext cx="127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5111640" y="1969560"/>
                <a:ext cx="1690200" cy="1258920"/>
              </a:xfrm>
              <a:custGeom>
                <a:avLst/>
                <a:gdLst/>
                <a:ahLst/>
                <a:rect l="l" t="t" r="r" b="b"/>
                <a:pathLst>
                  <a:path w="1053" h="820">
                    <a:moveTo>
                      <a:pt x="0" y="813"/>
                    </a:moveTo>
                    <a:lnTo>
                      <a:pt x="0" y="820"/>
                    </a:lnTo>
                    <a:lnTo>
                      <a:pt x="1053" y="7"/>
                    </a:lnTo>
                    <a:lnTo>
                      <a:pt x="1046" y="0"/>
                    </a:lnTo>
                    <a:lnTo>
                      <a:pt x="0" y="8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6132600" y="3039480"/>
                <a:ext cx="43200" cy="10440"/>
              </a:xfrm>
              <a:custGeom>
                <a:avLst/>
                <a:gdLst/>
                <a:ahLst/>
                <a:rect l="l" t="t" r="r" b="b"/>
                <a:pathLst>
                  <a:path w="27" h="7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6198480" y="303948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6241680" y="3039480"/>
                <a:ext cx="43200" cy="10440"/>
              </a:xfrm>
              <a:custGeom>
                <a:avLst/>
                <a:gdLst/>
                <a:ahLst/>
                <a:rect l="l" t="t" r="r" b="b"/>
                <a:pathLst>
                  <a:path w="2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6307560" y="303948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6339600" y="3039480"/>
                <a:ext cx="45000" cy="10440"/>
              </a:xfrm>
              <a:custGeom>
                <a:avLst/>
                <a:gdLst/>
                <a:ahLst/>
                <a:rect l="l" t="t" r="r" b="b"/>
                <a:pathLst>
                  <a:path w="28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6405480" y="303948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6439320" y="3039480"/>
                <a:ext cx="5400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34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1401840" y="3858120"/>
                <a:ext cx="185760" cy="188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1456200" y="3879720"/>
                <a:ext cx="15372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456200" y="3890160"/>
                <a:ext cx="1425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456200" y="3890160"/>
                <a:ext cx="9936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456200" y="3900960"/>
                <a:ext cx="1652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456200" y="3900960"/>
                <a:ext cx="16524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1456560" y="390096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1862280" y="3858120"/>
                <a:ext cx="385200" cy="188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1973160" y="3879720"/>
                <a:ext cx="24048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1973160" y="3890160"/>
                <a:ext cx="2178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1973160" y="3890160"/>
                <a:ext cx="18576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1973160" y="3900960"/>
                <a:ext cx="18576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1973160" y="3900960"/>
                <a:ext cx="24048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1972800" y="3900960"/>
                <a:ext cx="162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U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5670360" y="3712320"/>
                <a:ext cx="49464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736240" y="3732120"/>
                <a:ext cx="42876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5736240" y="3732120"/>
                <a:ext cx="38484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5736240" y="3742920"/>
                <a:ext cx="36288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5736240" y="3742920"/>
                <a:ext cx="41724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5736240" y="3753720"/>
                <a:ext cx="4172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5736600" y="3753720"/>
                <a:ext cx="323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GW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4365000" y="3428280"/>
                <a:ext cx="186120" cy="178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4376520" y="3449880"/>
                <a:ext cx="24084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4376520" y="3449880"/>
                <a:ext cx="2181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4376520" y="3449880"/>
                <a:ext cx="18612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376520" y="3460680"/>
                <a:ext cx="18612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4376520" y="3469680"/>
                <a:ext cx="2408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4375800" y="3469680"/>
                <a:ext cx="16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4288320" y="2987640"/>
                <a:ext cx="18576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4310640" y="3008880"/>
                <a:ext cx="22968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4310640" y="3008880"/>
                <a:ext cx="2088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4310640" y="3008880"/>
                <a:ext cx="1749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310640" y="3019680"/>
                <a:ext cx="1749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310640" y="3029040"/>
                <a:ext cx="22968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4308840" y="3029040"/>
                <a:ext cx="163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2774160" y="2557440"/>
                <a:ext cx="18612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1116000" y="3679920"/>
                <a:ext cx="308160" cy="199800"/>
              </a:xfrm>
              <a:prstGeom prst="rect">
                <a:avLst/>
              </a:prstGeom>
              <a:solidFill>
                <a:srgbClr val="ffff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181880" y="3701520"/>
                <a:ext cx="24228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181880" y="3712320"/>
                <a:ext cx="2196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181880" y="3712320"/>
                <a:ext cx="17640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181880" y="3723120"/>
                <a:ext cx="2422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1181880" y="3732120"/>
                <a:ext cx="24228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1181520" y="3732120"/>
                <a:ext cx="162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1587960" y="3679920"/>
                <a:ext cx="394920" cy="199800"/>
              </a:xfrm>
              <a:prstGeom prst="rect">
                <a:avLst/>
              </a:prstGeom>
              <a:solidFill>
                <a:srgbClr val="ffff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1676160" y="3701520"/>
                <a:ext cx="27432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1676160" y="3712320"/>
                <a:ext cx="2516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1676160" y="3712320"/>
                <a:ext cx="19728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1676160" y="3723120"/>
                <a:ext cx="2631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1676160" y="3732120"/>
                <a:ext cx="2516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1676520" y="3732120"/>
                <a:ext cx="183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2148120" y="3679920"/>
                <a:ext cx="483120" cy="199800"/>
              </a:xfrm>
              <a:prstGeom prst="rect">
                <a:avLst/>
              </a:prstGeom>
              <a:solidFill>
                <a:srgbClr val="ffff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2202480" y="3701520"/>
                <a:ext cx="43992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2202480" y="3712320"/>
                <a:ext cx="43992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2202480" y="3712320"/>
                <a:ext cx="39492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2202480" y="3723120"/>
                <a:ext cx="46080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2202480" y="3723120"/>
                <a:ext cx="46080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202840" y="3723120"/>
                <a:ext cx="3938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UTRA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401840" y="3764520"/>
                <a:ext cx="185760" cy="21240"/>
              </a:xfrm>
              <a:custGeom>
                <a:avLst/>
                <a:gdLst/>
                <a:ahLst/>
                <a:rect l="l" t="t" r="r" b="b"/>
                <a:pathLst>
                  <a:path w="116" h="14">
                    <a:moveTo>
                      <a:pt x="0" y="0"/>
                    </a:moveTo>
                    <a:lnTo>
                      <a:pt x="0" y="14"/>
                    </a:lnTo>
                    <a:lnTo>
                      <a:pt x="116" y="14"/>
                    </a:lnTo>
                    <a:lnTo>
                      <a:pt x="116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962000" y="3764520"/>
                <a:ext cx="185760" cy="21240"/>
              </a:xfrm>
              <a:custGeom>
                <a:avLst/>
                <a:gdLst/>
                <a:ahLst/>
                <a:rect l="l" t="t" r="r" b="b"/>
                <a:pathLst>
                  <a:path w="116" h="14">
                    <a:moveTo>
                      <a:pt x="0" y="0"/>
                    </a:moveTo>
                    <a:lnTo>
                      <a:pt x="0" y="14"/>
                    </a:lnTo>
                    <a:lnTo>
                      <a:pt x="116" y="14"/>
                    </a:lnTo>
                    <a:lnTo>
                      <a:pt x="116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3991320" y="3302640"/>
                <a:ext cx="746280" cy="21240"/>
              </a:xfrm>
              <a:custGeom>
                <a:avLst/>
                <a:gdLst/>
                <a:ahLst/>
                <a:rect l="l" t="t" r="r" b="b"/>
                <a:pathLst>
                  <a:path w="465" h="14">
                    <a:moveTo>
                      <a:pt x="0" y="0"/>
                    </a:moveTo>
                    <a:lnTo>
                      <a:pt x="0" y="7"/>
                    </a:lnTo>
                    <a:lnTo>
                      <a:pt x="465" y="14"/>
                    </a:lnTo>
                    <a:lnTo>
                      <a:pt x="46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489680" y="3679920"/>
                <a:ext cx="11160" cy="189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2048760" y="3679920"/>
                <a:ext cx="11160" cy="189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3728160" y="2472840"/>
                <a:ext cx="187200" cy="178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3750120" y="2483640"/>
                <a:ext cx="21960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3750120" y="2494440"/>
                <a:ext cx="1976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750120" y="2494440"/>
                <a:ext cx="16524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750120" y="2505240"/>
                <a:ext cx="16524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3750120" y="2514600"/>
                <a:ext cx="2196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3749400" y="2514600"/>
                <a:ext cx="142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3915360" y="2557440"/>
                <a:ext cx="1861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432240" y="3217680"/>
                <a:ext cx="789840" cy="231840"/>
              </a:xfrm>
              <a:prstGeom prst="rect">
                <a:avLst/>
              </a:prstGeom>
              <a:solidFill>
                <a:srgbClr val="ffff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3652200" y="3239280"/>
                <a:ext cx="41544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3652200" y="3250080"/>
                <a:ext cx="3834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3652200" y="3250080"/>
                <a:ext cx="38340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3652200" y="3260520"/>
                <a:ext cx="4381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652200" y="3271320"/>
                <a:ext cx="4381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3652560" y="3271320"/>
                <a:ext cx="358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GS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4737600" y="3217680"/>
                <a:ext cx="58248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4848480" y="3239280"/>
                <a:ext cx="44892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4848480" y="3239280"/>
                <a:ext cx="40572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4848480" y="3250080"/>
                <a:ext cx="394560" cy="15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4848480" y="3250080"/>
                <a:ext cx="46044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848480" y="3260520"/>
                <a:ext cx="4489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847760" y="3260520"/>
                <a:ext cx="374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GS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3520800" y="2683440"/>
                <a:ext cx="394560" cy="199800"/>
              </a:xfrm>
              <a:prstGeom prst="rect">
                <a:avLst/>
              </a:prstGeom>
              <a:solidFill>
                <a:srgbClr val="ffff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607560" y="2703600"/>
                <a:ext cx="29700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3607560" y="2703600"/>
                <a:ext cx="26316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3607560" y="2714400"/>
                <a:ext cx="23112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3607560" y="2714400"/>
                <a:ext cx="28548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3607560" y="2725200"/>
                <a:ext cx="2854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607920" y="2725200"/>
                <a:ext cx="210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EI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024800" y="3154680"/>
                <a:ext cx="1800" cy="42840"/>
              </a:xfrm>
              <a:custGeom>
                <a:avLst/>
                <a:gdLst/>
                <a:ahLst/>
                <a:rect l="l" t="t" r="r" b="b"/>
                <a:pathLst>
                  <a:path w="0" h="28">
                    <a:moveTo>
                      <a:pt x="0" y="28"/>
                    </a:move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4024800" y="3113280"/>
                <a:ext cx="1800" cy="21240"/>
              </a:xfrm>
              <a:custGeom>
                <a:avLst/>
                <a:gdLst/>
                <a:ahLst/>
                <a:rect l="l" t="t" r="r" b="b"/>
                <a:pathLst>
                  <a:path w="0" h="14">
                    <a:moveTo>
                      <a:pt x="0" y="14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4024800" y="3061080"/>
                <a:ext cx="1800" cy="41400"/>
              </a:xfrm>
              <a:custGeom>
                <a:avLst/>
                <a:gdLst/>
                <a:ahLst/>
                <a:rect l="l" t="t" r="r" b="b"/>
                <a:pathLst>
                  <a:path w="0" h="27">
                    <a:moveTo>
                      <a:pt x="0" y="20"/>
                    </a:move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4024800" y="3019680"/>
                <a:ext cx="1800" cy="19800"/>
              </a:xfrm>
              <a:custGeom>
                <a:avLst/>
                <a:gdLst/>
                <a:ahLst/>
                <a:rect l="l" t="t" r="r" b="b"/>
                <a:pathLst>
                  <a:path w="0" h="13">
                    <a:moveTo>
                      <a:pt x="0" y="6"/>
                    </a:moveTo>
                    <a:lnTo>
                      <a:pt x="0" y="6"/>
                    </a:lnTo>
                    <a:lnTo>
                      <a:pt x="0" y="1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4024800" y="2955240"/>
                <a:ext cx="1800" cy="42480"/>
              </a:xfrm>
              <a:custGeom>
                <a:avLst/>
                <a:gdLst/>
                <a:ahLst/>
                <a:rect l="l" t="t" r="r" b="b"/>
                <a:pathLst>
                  <a:path w="0" h="28">
                    <a:moveTo>
                      <a:pt x="0" y="28"/>
                    </a:move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4024800" y="2861640"/>
                <a:ext cx="1800" cy="41400"/>
              </a:xfrm>
              <a:custGeom>
                <a:avLst/>
                <a:gdLst/>
                <a:ahLst/>
                <a:rect l="l" t="t" r="r" b="b"/>
                <a:pathLst>
                  <a:path w="0" h="27">
                    <a:moveTo>
                      <a:pt x="0" y="27"/>
                    </a:move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024800" y="2820240"/>
                <a:ext cx="1800" cy="19800"/>
              </a:xfrm>
              <a:custGeom>
                <a:avLst/>
                <a:gdLst/>
                <a:ahLst/>
                <a:rect l="l" t="t" r="r" b="b"/>
                <a:pathLst>
                  <a:path w="0" h="13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4024800" y="2757240"/>
                <a:ext cx="1800" cy="52200"/>
              </a:xfrm>
              <a:custGeom>
                <a:avLst/>
                <a:gdLst/>
                <a:ahLst/>
                <a:rect l="l" t="t" r="r" b="b"/>
                <a:pathLst>
                  <a:path w="0" h="34">
                    <a:moveTo>
                      <a:pt x="0" y="27"/>
                    </a:moveTo>
                    <a:lnTo>
                      <a:pt x="0" y="27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4024800" y="2725200"/>
                <a:ext cx="1800" cy="21240"/>
              </a:xfrm>
              <a:custGeom>
                <a:avLst/>
                <a:gdLst/>
                <a:ahLst/>
                <a:rect l="l" t="t" r="r" b="b"/>
                <a:pathLst>
                  <a:path w="0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4024800" y="2662200"/>
                <a:ext cx="1800" cy="41400"/>
              </a:xfrm>
              <a:custGeom>
                <a:avLst/>
                <a:gdLst/>
                <a:ahLst/>
                <a:rect l="l" t="t" r="r" b="b"/>
                <a:pathLst>
                  <a:path w="0" h="27">
                    <a:moveTo>
                      <a:pt x="0" y="27"/>
                    </a:move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4024800" y="2631600"/>
                <a:ext cx="1800" cy="9000"/>
              </a:xfrm>
              <a:custGeom>
                <a:avLst/>
                <a:gdLst/>
                <a:ahLst/>
                <a:rect l="l" t="t" r="r" b="b"/>
                <a:pathLst>
                  <a:path w="0" h="6">
                    <a:moveTo>
                      <a:pt x="0" y="6"/>
                    </a:move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4024800" y="2568240"/>
                <a:ext cx="1800" cy="41400"/>
              </a:xfrm>
              <a:custGeom>
                <a:avLst/>
                <a:gdLst/>
                <a:ahLst/>
                <a:rect l="l" t="t" r="r" b="b"/>
                <a:pathLst>
                  <a:path w="0" h="27">
                    <a:moveTo>
                      <a:pt x="0" y="20"/>
                    </a:move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4024800" y="2525400"/>
                <a:ext cx="1800" cy="21240"/>
              </a:xfrm>
              <a:custGeom>
                <a:avLst/>
                <a:gdLst/>
                <a:ahLst/>
                <a:rect l="l" t="t" r="r" b="b"/>
                <a:pathLst>
                  <a:path w="0" h="14">
                    <a:moveTo>
                      <a:pt x="0" y="14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4024800" y="2472840"/>
                <a:ext cx="1800" cy="41400"/>
              </a:xfrm>
              <a:custGeom>
                <a:avLst/>
                <a:gdLst/>
                <a:ahLst/>
                <a:rect l="l" t="t" r="r" b="b"/>
                <a:pathLst>
                  <a:path w="0" h="27">
                    <a:moveTo>
                      <a:pt x="0" y="21"/>
                    </a:moveTo>
                    <a:lnTo>
                      <a:pt x="0" y="21"/>
                    </a:lnTo>
                    <a:lnTo>
                      <a:pt x="0" y="21"/>
                    </a:lnTo>
                    <a:lnTo>
                      <a:pt x="0" y="27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4079160" y="2442240"/>
                <a:ext cx="33840" cy="3060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4124520" y="2494440"/>
                <a:ext cx="9360" cy="1044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4145040" y="2514600"/>
                <a:ext cx="33840" cy="42840"/>
              </a:xfrm>
              <a:custGeom>
                <a:avLst/>
                <a:gdLst/>
                <a:ahLst/>
                <a:rect l="l" t="t" r="r" b="b"/>
                <a:pathLst>
                  <a:path w="21" h="28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4" y="21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21" y="28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4190400" y="2568240"/>
                <a:ext cx="9360" cy="900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4210920" y="2599200"/>
                <a:ext cx="33480" cy="3204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4244760" y="2640600"/>
                <a:ext cx="20880" cy="2124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265640" y="2673000"/>
                <a:ext cx="44640" cy="30600"/>
              </a:xfrm>
              <a:custGeom>
                <a:avLst/>
                <a:gdLst/>
                <a:ahLst/>
                <a:rect l="l" t="t" r="r" b="b"/>
                <a:pathLst>
                  <a:path w="28" h="2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8" y="20"/>
                    </a:lnTo>
                    <a:lnTo>
                      <a:pt x="28" y="20"/>
                    </a:lnTo>
                    <a:lnTo>
                      <a:pt x="21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4310640" y="2725200"/>
                <a:ext cx="2088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4342680" y="2746440"/>
                <a:ext cx="22320" cy="4140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4" y="20"/>
                    </a:lnTo>
                    <a:lnTo>
                      <a:pt x="14" y="27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4376520" y="279864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4397040" y="2820240"/>
                <a:ext cx="33840" cy="41400"/>
              </a:xfrm>
              <a:custGeom>
                <a:avLst/>
                <a:gdLst/>
                <a:ahLst/>
                <a:rect l="l" t="t" r="r" b="b"/>
                <a:pathLst>
                  <a:path w="21" h="27">
                    <a:moveTo>
                      <a:pt x="7" y="6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0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4442400" y="287244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4462920" y="2903040"/>
                <a:ext cx="33840" cy="3204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4508280" y="294624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4528800" y="2976840"/>
                <a:ext cx="33840" cy="3168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573800" y="301968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6"/>
                    </a:moveTo>
                    <a:lnTo>
                      <a:pt x="7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4594680" y="3050280"/>
                <a:ext cx="33480" cy="41400"/>
              </a:xfrm>
              <a:custGeom>
                <a:avLst/>
                <a:gdLst/>
                <a:ahLst/>
                <a:rect l="l" t="t" r="r" b="b"/>
                <a:pathLst>
                  <a:path w="21" h="2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39680" y="310248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4662000" y="312408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6" y="7"/>
                    </a:moveTo>
                    <a:lnTo>
                      <a:pt x="6" y="7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0"/>
                    </a:lnTo>
                    <a:lnTo>
                      <a:pt x="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4705560" y="317628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4727880" y="3208680"/>
                <a:ext cx="9360" cy="900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4474440" y="3071880"/>
                <a:ext cx="18756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453560" y="3250080"/>
                <a:ext cx="9360" cy="177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5670360" y="2955240"/>
                <a:ext cx="49464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5726520" y="2976840"/>
                <a:ext cx="46044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5726520" y="2976840"/>
                <a:ext cx="4154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726520" y="2976840"/>
                <a:ext cx="40572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726520" y="2987640"/>
                <a:ext cx="4604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5726520" y="2998080"/>
                <a:ext cx="4489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5726520" y="2998080"/>
                <a:ext cx="374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GCF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573800" y="1791000"/>
                <a:ext cx="746640" cy="19980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4803480" y="1811520"/>
                <a:ext cx="52812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4682880" y="1822320"/>
                <a:ext cx="6033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4682880" y="1822320"/>
                <a:ext cx="60336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4682880" y="1832760"/>
                <a:ext cx="6692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4682880" y="1832760"/>
                <a:ext cx="66924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4683960" y="1832760"/>
                <a:ext cx="563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-SGW *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925520" y="2777040"/>
                <a:ext cx="394920" cy="18900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4979880" y="2798640"/>
                <a:ext cx="36108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4979880" y="2798640"/>
                <a:ext cx="3290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4979880" y="2798640"/>
                <a:ext cx="2955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4979880" y="2809440"/>
                <a:ext cx="3513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4979880" y="2820240"/>
                <a:ext cx="3513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980240" y="2820240"/>
                <a:ext cx="275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RF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6516360" y="1528560"/>
                <a:ext cx="1141560" cy="555840"/>
              </a:xfrm>
              <a:prstGeom prst="ellipse">
                <a:avLst/>
              </a:prstGeom>
              <a:solidFill>
                <a:srgbClr val="f2f2f2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6768360" y="1643760"/>
                <a:ext cx="72360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6768360" y="1643760"/>
                <a:ext cx="6465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6768360" y="1643760"/>
                <a:ext cx="65808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6768360" y="1654560"/>
                <a:ext cx="7120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6768360" y="1665360"/>
                <a:ext cx="70272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6770160" y="1665360"/>
                <a:ext cx="608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ultimedi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746040" y="1791000"/>
                <a:ext cx="76860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6746040" y="1791000"/>
                <a:ext cx="8006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6746040" y="1791000"/>
                <a:ext cx="72540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6746040" y="1801800"/>
                <a:ext cx="79128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6746040" y="1811520"/>
                <a:ext cx="78012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6745320" y="1811520"/>
                <a:ext cx="683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P Network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6516360" y="3532680"/>
                <a:ext cx="1141560" cy="557280"/>
              </a:xfrm>
              <a:prstGeom prst="ellipse">
                <a:avLst/>
              </a:prstGeom>
              <a:solidFill>
                <a:srgbClr val="f2f2f2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6911280" y="3649320"/>
                <a:ext cx="4060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6911280" y="3660120"/>
                <a:ext cx="4172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6811920" y="3660120"/>
                <a:ext cx="40572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6811920" y="3660120"/>
                <a:ext cx="46224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6811920" y="3669120"/>
                <a:ext cx="4622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6811920" y="3669120"/>
                <a:ext cx="372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STN/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6691320" y="3775320"/>
                <a:ext cx="86652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6691320" y="3786120"/>
                <a:ext cx="98712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6582240" y="3786120"/>
                <a:ext cx="96444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582240" y="3795120"/>
                <a:ext cx="102096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582240" y="3805920"/>
                <a:ext cx="10098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580440" y="3805920"/>
                <a:ext cx="907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Legacy/Externa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2960640" y="1077120"/>
                <a:ext cx="1327320" cy="913680"/>
              </a:xfrm>
              <a:prstGeom prst="ellipse">
                <a:avLst/>
              </a:prstGeom>
              <a:solidFill>
                <a:srgbClr val="f2f2f2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212640" y="1234080"/>
                <a:ext cx="93240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212640" y="1234080"/>
                <a:ext cx="8460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3223800" y="1234080"/>
                <a:ext cx="84420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223800" y="1244880"/>
                <a:ext cx="9003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3223800" y="1255320"/>
                <a:ext cx="9003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3224520" y="1255320"/>
                <a:ext cx="7992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pplications &amp;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3332880" y="1381320"/>
                <a:ext cx="68004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332880" y="1381320"/>
                <a:ext cx="7801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3332880" y="1381320"/>
                <a:ext cx="68004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3332880" y="1392120"/>
                <a:ext cx="7347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3332880" y="1402920"/>
                <a:ext cx="7347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3332880" y="1402920"/>
                <a:ext cx="648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ervices  *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5944680" y="312408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5944680" y="318708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5944680" y="3217680"/>
                <a:ext cx="11160" cy="53280"/>
              </a:xfrm>
              <a:custGeom>
                <a:avLst/>
                <a:gdLst/>
                <a:ahLst/>
                <a:rect l="l" t="t" r="r" b="b"/>
                <a:pathLst>
                  <a:path w="7" h="35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28"/>
                    </a:lnTo>
                    <a:lnTo>
                      <a:pt x="0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2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5944680" y="329184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5944680" y="332388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5944680" y="338688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5944680" y="341748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5944680" y="348048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5944680" y="352368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5944680" y="3586320"/>
                <a:ext cx="11160" cy="2016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5944680" y="3617280"/>
                <a:ext cx="11160" cy="42480"/>
              </a:xfrm>
              <a:custGeom>
                <a:avLst/>
                <a:gdLst/>
                <a:ahLst/>
                <a:rect l="l" t="t" r="r" b="b"/>
                <a:pathLst>
                  <a:path w="7" h="28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5944680" y="367992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011920" y="2955240"/>
                <a:ext cx="11160" cy="262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5198400" y="3397680"/>
                <a:ext cx="462240" cy="334440"/>
              </a:xfrm>
              <a:custGeom>
                <a:avLst/>
                <a:gdLst/>
                <a:ahLst/>
                <a:rect l="l" t="t" r="r" b="b"/>
                <a:pathLst>
                  <a:path w="288" h="218">
                    <a:moveTo>
                      <a:pt x="7" y="0"/>
                    </a:moveTo>
                    <a:lnTo>
                      <a:pt x="0" y="6"/>
                    </a:lnTo>
                    <a:lnTo>
                      <a:pt x="288" y="218"/>
                    </a:lnTo>
                    <a:lnTo>
                      <a:pt x="288" y="212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4825800" y="250524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4825800" y="256824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4825800" y="259920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4825800" y="266220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4825800" y="269424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6"/>
                    </a:move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4825800" y="275724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6"/>
                    </a:moveTo>
                    <a:lnTo>
                      <a:pt x="7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4825800" y="279864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4825800" y="286164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4825800" y="2892240"/>
                <a:ext cx="11160" cy="42840"/>
              </a:xfrm>
              <a:custGeom>
                <a:avLst/>
                <a:gdLst/>
                <a:ahLst/>
                <a:rect l="l" t="t" r="r" b="b"/>
                <a:pathLst>
                  <a:path w="7" h="28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4825800" y="295524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4825800" y="299808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4825800" y="306108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4825800" y="3091680"/>
                <a:ext cx="11160" cy="42840"/>
              </a:xfrm>
              <a:custGeom>
                <a:avLst/>
                <a:gdLst/>
                <a:ahLst/>
                <a:rect l="l" t="t" r="r" b="b"/>
                <a:pathLst>
                  <a:path w="7" h="28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4825800" y="315468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4825800" y="3187080"/>
                <a:ext cx="11160" cy="30600"/>
              </a:xfrm>
              <a:custGeom>
                <a:avLst/>
                <a:gdLst/>
                <a:ahLst/>
                <a:rect l="l" t="t" r="r" b="b"/>
                <a:pathLst>
                  <a:path w="7" h="20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5011920" y="250524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5011920" y="256824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5011920" y="259920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5011920" y="266220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5011920" y="269424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6"/>
                    </a:move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5011920" y="275724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6"/>
                    </a:moveTo>
                    <a:lnTo>
                      <a:pt x="7" y="6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5111640" y="2399400"/>
                <a:ext cx="43200" cy="2124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0" y="7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5166360" y="238860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5198400" y="2368440"/>
                <a:ext cx="44640" cy="10440"/>
              </a:xfrm>
              <a:custGeom>
                <a:avLst/>
                <a:gdLst/>
                <a:ahLst/>
                <a:rect l="l" t="t" r="r" b="b"/>
                <a:pathLst>
                  <a:path w="28" h="7">
                    <a:moveTo>
                      <a:pt x="7" y="7"/>
                    </a:move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5264280" y="234720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5297760" y="2325600"/>
                <a:ext cx="43200" cy="2124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7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5363640" y="23148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5397480" y="2284200"/>
                <a:ext cx="43200" cy="2124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14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5452200" y="227340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7"/>
                    </a:move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5484240" y="2251800"/>
                <a:ext cx="54360" cy="2124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5550120" y="2242800"/>
                <a:ext cx="21960" cy="900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5583600" y="2221200"/>
                <a:ext cx="43200" cy="2124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5649480" y="219960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5681520" y="2179800"/>
                <a:ext cx="45000" cy="19800"/>
              </a:xfrm>
              <a:custGeom>
                <a:avLst/>
                <a:gdLst/>
                <a:ahLst/>
                <a:rect l="l" t="t" r="r" b="b"/>
                <a:pathLst>
                  <a:path w="28" h="13">
                    <a:moveTo>
                      <a:pt x="0" y="6"/>
                    </a:move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8" y="6"/>
                    </a:lnTo>
                    <a:lnTo>
                      <a:pt x="28" y="6"/>
                    </a:lnTo>
                    <a:lnTo>
                      <a:pt x="21" y="6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5736240" y="21690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5781240" y="2147400"/>
                <a:ext cx="31680" cy="21240"/>
              </a:xfrm>
              <a:custGeom>
                <a:avLst/>
                <a:gdLst/>
                <a:ahLst/>
                <a:rect l="l" t="t" r="r" b="b"/>
                <a:pathLst>
                  <a:path w="20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0" y="7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5835960" y="213696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5868000" y="2106000"/>
                <a:ext cx="44640" cy="20160"/>
              </a:xfrm>
              <a:custGeom>
                <a:avLst/>
                <a:gdLst/>
                <a:ahLst/>
                <a:rect l="l" t="t" r="r" b="b"/>
                <a:pathLst>
                  <a:path w="28" h="13">
                    <a:moveTo>
                      <a:pt x="7" y="7"/>
                    </a:moveTo>
                    <a:lnTo>
                      <a:pt x="0" y="7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5935320" y="209556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5967360" y="2073960"/>
                <a:ext cx="43200" cy="2124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1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6021720" y="20631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6067080" y="2032560"/>
                <a:ext cx="43200" cy="2124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14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0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6121080" y="2021760"/>
                <a:ext cx="2088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0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6153480" y="2000160"/>
                <a:ext cx="44640" cy="21240"/>
              </a:xfrm>
              <a:custGeom>
                <a:avLst/>
                <a:gdLst/>
                <a:ahLst/>
                <a:rect l="l" t="t" r="r" b="b"/>
                <a:pathLst>
                  <a:path w="28" h="14">
                    <a:moveTo>
                      <a:pt x="7" y="7"/>
                    </a:moveTo>
                    <a:lnTo>
                      <a:pt x="7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6219000" y="1991160"/>
                <a:ext cx="22320" cy="900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6252840" y="1958760"/>
                <a:ext cx="43200" cy="32040"/>
              </a:xfrm>
              <a:custGeom>
                <a:avLst/>
                <a:gdLst/>
                <a:ahLst/>
                <a:rect l="l" t="t" r="r" b="b"/>
                <a:pathLst>
                  <a:path w="27" h="21">
                    <a:moveTo>
                      <a:pt x="0" y="14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6319080" y="19479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6351120" y="1928160"/>
                <a:ext cx="45000" cy="19800"/>
              </a:xfrm>
              <a:custGeom>
                <a:avLst/>
                <a:gdLst/>
                <a:ahLst/>
                <a:rect l="l" t="t" r="r" b="b"/>
                <a:pathLst>
                  <a:path w="28" h="13">
                    <a:moveTo>
                      <a:pt x="0" y="6"/>
                    </a:move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1" y="0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6405480" y="19173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6439320" y="1884960"/>
                <a:ext cx="43200" cy="32040"/>
              </a:xfrm>
              <a:custGeom>
                <a:avLst/>
                <a:gdLst/>
                <a:ahLst/>
                <a:rect l="l" t="t" r="r" b="b"/>
                <a:pathLst>
                  <a:path w="27" h="21">
                    <a:moveTo>
                      <a:pt x="7" y="14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21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7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6504840" y="18745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5111640" y="241020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5155200" y="24516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5188680" y="2472840"/>
                <a:ext cx="43200" cy="32040"/>
              </a:xfrm>
              <a:custGeom>
                <a:avLst/>
                <a:gdLst/>
                <a:ahLst/>
                <a:rect l="l" t="t" r="r" b="b"/>
                <a:pathLst>
                  <a:path w="27" h="21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7" y="21"/>
                    </a:lnTo>
                    <a:lnTo>
                      <a:pt x="27" y="14"/>
                    </a:lnTo>
                    <a:lnTo>
                      <a:pt x="27" y="14"/>
                    </a:lnTo>
                    <a:lnTo>
                      <a:pt x="27" y="14"/>
                    </a:lnTo>
                    <a:lnTo>
                      <a:pt x="27" y="1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5243040" y="2505240"/>
                <a:ext cx="20880" cy="19800"/>
              </a:xfrm>
              <a:custGeom>
                <a:avLst/>
                <a:gdLst/>
                <a:ahLst/>
                <a:rect l="l" t="t" r="r" b="b"/>
                <a:pathLst>
                  <a:path w="13" h="13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13" y="13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7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5275440" y="2525400"/>
                <a:ext cx="33480" cy="3204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0" y="7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14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5320440" y="2568240"/>
                <a:ext cx="20520" cy="9000"/>
              </a:xfrm>
              <a:custGeom>
                <a:avLst/>
                <a:gdLst/>
                <a:ahLst/>
                <a:rect l="l" t="t" r="r" b="b"/>
                <a:pathLst>
                  <a:path w="13" h="6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5352480" y="2588400"/>
                <a:ext cx="45000" cy="32040"/>
              </a:xfrm>
              <a:custGeom>
                <a:avLst/>
                <a:gdLst/>
                <a:ahLst/>
                <a:rect l="l" t="t" r="r" b="b"/>
                <a:pathLst>
                  <a:path w="28" h="21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8" y="21"/>
                    </a:lnTo>
                    <a:lnTo>
                      <a:pt x="28" y="21"/>
                    </a:lnTo>
                    <a:lnTo>
                      <a:pt x="28" y="21"/>
                    </a:lnTo>
                    <a:lnTo>
                      <a:pt x="28" y="1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5406840" y="263160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5440680" y="265140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14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5484240" y="2683440"/>
                <a:ext cx="22320" cy="2016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5517720" y="2703600"/>
                <a:ext cx="32040" cy="3168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1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5572080" y="274644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5604480" y="2766600"/>
                <a:ext cx="33480" cy="3168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5649480" y="2798640"/>
                <a:ext cx="20520" cy="2124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5681520" y="2829240"/>
                <a:ext cx="45000" cy="32040"/>
              </a:xfrm>
              <a:custGeom>
                <a:avLst/>
                <a:gdLst/>
                <a:ahLst/>
                <a:rect l="l" t="t" r="r" b="b"/>
                <a:pathLst>
                  <a:path w="28" h="21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8" y="14"/>
                    </a:lnTo>
                    <a:lnTo>
                      <a:pt x="28" y="14"/>
                    </a:lnTo>
                    <a:lnTo>
                      <a:pt x="21" y="1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5736240" y="286164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5758560" y="2883240"/>
                <a:ext cx="43200" cy="30600"/>
              </a:xfrm>
              <a:custGeom>
                <a:avLst/>
                <a:gdLst/>
                <a:ahLst/>
                <a:rect l="l" t="t" r="r" b="b"/>
                <a:pathLst>
                  <a:path w="27" h="2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21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13"/>
                    </a:lnTo>
                    <a:lnTo>
                      <a:pt x="27" y="13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5813280" y="292464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5846760" y="2946240"/>
                <a:ext cx="20880" cy="9000"/>
              </a:xfrm>
              <a:custGeom>
                <a:avLst/>
                <a:gdLst/>
                <a:ahLst/>
                <a:rect l="l" t="t" r="r" b="b"/>
                <a:pathLst>
                  <a:path w="13" h="6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4068000" y="2410200"/>
                <a:ext cx="56160" cy="10440"/>
              </a:xfrm>
              <a:custGeom>
                <a:avLst/>
                <a:gdLst/>
                <a:ahLst/>
                <a:rect l="l" t="t" r="r" b="b"/>
                <a:pathLst>
                  <a:path w="35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28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0"/>
                    </a:lnTo>
                    <a:lnTo>
                      <a:pt x="28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133880" y="24102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4178880" y="2410200"/>
                <a:ext cx="43200" cy="10440"/>
              </a:xfrm>
              <a:custGeom>
                <a:avLst/>
                <a:gdLst/>
                <a:ahLst/>
                <a:rect l="l" t="t" r="r" b="b"/>
                <a:pathLst>
                  <a:path w="2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0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4244760" y="2410200"/>
                <a:ext cx="2088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4277160" y="241020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4342680" y="24102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4376520" y="241020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2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4453560" y="2410200"/>
                <a:ext cx="9360" cy="1044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4485600" y="2410200"/>
                <a:ext cx="43200" cy="10440"/>
              </a:xfrm>
              <a:custGeom>
                <a:avLst/>
                <a:gdLst/>
                <a:ahLst/>
                <a:rect l="l" t="t" r="r" b="b"/>
                <a:pathLst>
                  <a:path w="2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4551480" y="241020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4584960" y="241020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5011920" y="19695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5011920" y="19803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5011920" y="199116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7" y="6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5011920" y="20001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5011920" y="20217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011920" y="20325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5011920" y="20433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5011920" y="205380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5011920" y="20631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5011920" y="20739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5011920" y="20847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5011920" y="20955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5011920" y="211680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5011920" y="21261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5011920" y="21369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5011920" y="214740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5011920" y="21582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011920" y="21690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11920" y="2179800"/>
                <a:ext cx="1116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7" y="6"/>
                    </a:moveTo>
                    <a:lnTo>
                      <a:pt x="7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5011920" y="21891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5011920" y="221040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5011920" y="222120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5011920" y="22320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5011920" y="224280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5011920" y="22518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5011920" y="22626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5011920" y="22734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5011920" y="22842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5011920" y="230580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5011920" y="231480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4737600" y="2683440"/>
                <a:ext cx="18756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5857920" y="2053800"/>
                <a:ext cx="97920" cy="104400"/>
              </a:xfrm>
              <a:custGeom>
                <a:avLst/>
                <a:gdLst/>
                <a:ahLst/>
                <a:rect l="l" t="t" r="r" b="b"/>
                <a:pathLst>
                  <a:path w="61" h="68">
                    <a:moveTo>
                      <a:pt x="0" y="0"/>
                    </a:moveTo>
                    <a:lnTo>
                      <a:pt x="0" y="6"/>
                    </a:lnTo>
                    <a:lnTo>
                      <a:pt x="54" y="68"/>
                    </a:lnTo>
                    <a:lnTo>
                      <a:pt x="61" y="6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5857920" y="2147400"/>
                <a:ext cx="284040" cy="178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5879160" y="2169000"/>
                <a:ext cx="253080" cy="156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5912640" y="2179800"/>
                <a:ext cx="2631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5912640" y="2179800"/>
                <a:ext cx="2631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5912640" y="2189160"/>
                <a:ext cx="22968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5912640" y="2189160"/>
                <a:ext cx="285480" cy="19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5912640" y="2199600"/>
                <a:ext cx="28548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5913720" y="2199600"/>
                <a:ext cx="210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5386320" y="2588400"/>
                <a:ext cx="109080" cy="105840"/>
              </a:xfrm>
              <a:custGeom>
                <a:avLst/>
                <a:gdLst/>
                <a:ahLst/>
                <a:rect l="l" t="t" r="r" b="b"/>
                <a:pathLst>
                  <a:path w="68" h="69">
                    <a:moveTo>
                      <a:pt x="68" y="7"/>
                    </a:moveTo>
                    <a:lnTo>
                      <a:pt x="61" y="0"/>
                    </a:lnTo>
                    <a:lnTo>
                      <a:pt x="0" y="62"/>
                    </a:lnTo>
                    <a:lnTo>
                      <a:pt x="7" y="69"/>
                    </a:lnTo>
                    <a:lnTo>
                      <a:pt x="68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5331600" y="1895760"/>
                <a:ext cx="29520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5331600" y="1906560"/>
                <a:ext cx="2728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5331600" y="1906560"/>
                <a:ext cx="2181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5331600" y="1917360"/>
                <a:ext cx="2728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5331600" y="1928160"/>
                <a:ext cx="2728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5332320" y="1928160"/>
                <a:ext cx="197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w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4551480" y="1077120"/>
                <a:ext cx="987120" cy="555480"/>
              </a:xfrm>
              <a:prstGeom prst="ellipse">
                <a:avLst/>
              </a:prstGeom>
              <a:solidFill>
                <a:srgbClr val="f2f2f2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4716720" y="1181880"/>
                <a:ext cx="69012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4716720" y="1181880"/>
                <a:ext cx="71244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4671720" y="1192680"/>
                <a:ext cx="374040" cy="14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4671720" y="1203120"/>
                <a:ext cx="43992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4671720" y="1213920"/>
                <a:ext cx="43992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4669200" y="1213920"/>
                <a:ext cx="3726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Legacy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5077800" y="1181880"/>
                <a:ext cx="351360" cy="14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5077800" y="1192680"/>
                <a:ext cx="41724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5077800" y="1203120"/>
                <a:ext cx="41724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5076720" y="1203120"/>
                <a:ext cx="3391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mobil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4825800" y="1296720"/>
                <a:ext cx="46044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4825800" y="1296720"/>
                <a:ext cx="47160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4617360" y="1329120"/>
                <a:ext cx="482760" cy="14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4617360" y="1339920"/>
                <a:ext cx="54864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4617360" y="1350720"/>
                <a:ext cx="54864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4614480" y="1350720"/>
                <a:ext cx="4824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signalling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4837320" y="1413720"/>
                <a:ext cx="438120" cy="15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4837320" y="1413720"/>
                <a:ext cx="448920" cy="15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5089320" y="1350720"/>
                <a:ext cx="428400" cy="13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5089320" y="1350720"/>
                <a:ext cx="49428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5089320" y="1359720"/>
                <a:ext cx="49428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5088240" y="1359720"/>
                <a:ext cx="4212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Network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925520" y="2147400"/>
                <a:ext cx="1861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320440" y="3469680"/>
                <a:ext cx="109080" cy="105840"/>
              </a:xfrm>
              <a:custGeom>
                <a:avLst/>
                <a:gdLst/>
                <a:ahLst/>
                <a:rect l="l" t="t" r="r" b="b"/>
                <a:pathLst>
                  <a:path w="68" h="69">
                    <a:moveTo>
                      <a:pt x="68" y="7"/>
                    </a:moveTo>
                    <a:lnTo>
                      <a:pt x="61" y="0"/>
                    </a:lnTo>
                    <a:lnTo>
                      <a:pt x="0" y="62"/>
                    </a:lnTo>
                    <a:lnTo>
                      <a:pt x="7" y="69"/>
                    </a:lnTo>
                    <a:lnTo>
                      <a:pt x="68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5857920" y="3302640"/>
                <a:ext cx="186120" cy="21240"/>
              </a:xfrm>
              <a:custGeom>
                <a:avLst/>
                <a:gdLst/>
                <a:ahLst/>
                <a:rect l="l" t="t" r="r" b="b"/>
                <a:pathLst>
                  <a:path w="116" h="14">
                    <a:moveTo>
                      <a:pt x="0" y="0"/>
                    </a:moveTo>
                    <a:lnTo>
                      <a:pt x="0" y="7"/>
                    </a:lnTo>
                    <a:lnTo>
                      <a:pt x="116" y="14"/>
                    </a:lnTo>
                    <a:lnTo>
                      <a:pt x="11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6044400" y="3217680"/>
                <a:ext cx="285480" cy="179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6099120" y="3239280"/>
                <a:ext cx="26316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6099120" y="3239280"/>
                <a:ext cx="23112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6099120" y="3239280"/>
                <a:ext cx="18576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6099120" y="3250080"/>
                <a:ext cx="18576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6099120" y="3260520"/>
                <a:ext cx="2404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6099120" y="3260520"/>
                <a:ext cx="16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4935240" y="2631600"/>
                <a:ext cx="187560" cy="19800"/>
              </a:xfrm>
              <a:custGeom>
                <a:avLst/>
                <a:gdLst/>
                <a:ahLst/>
                <a:rect l="l" t="t" r="r" b="b"/>
                <a:pathLst>
                  <a:path w="117" h="13">
                    <a:moveTo>
                      <a:pt x="0" y="0"/>
                    </a:moveTo>
                    <a:lnTo>
                      <a:pt x="0" y="13"/>
                    </a:lnTo>
                    <a:lnTo>
                      <a:pt x="117" y="13"/>
                    </a:lnTo>
                    <a:lnTo>
                      <a:pt x="117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4387680" y="2314800"/>
                <a:ext cx="20520" cy="179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4376520" y="2242800"/>
                <a:ext cx="18612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4387680" y="2251800"/>
                <a:ext cx="24048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4387680" y="2262600"/>
                <a:ext cx="21816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4397040" y="2262600"/>
                <a:ext cx="17640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4397040" y="2273400"/>
                <a:ext cx="16560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4397040" y="2284200"/>
                <a:ext cx="2199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4396680" y="2284200"/>
                <a:ext cx="15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5944680" y="2505240"/>
                <a:ext cx="110880" cy="93600"/>
              </a:xfrm>
              <a:custGeom>
                <a:avLst/>
                <a:gdLst/>
                <a:ahLst/>
                <a:rect l="l" t="t" r="r" b="b"/>
                <a:pathLst>
                  <a:path w="69" h="61">
                    <a:moveTo>
                      <a:pt x="7" y="0"/>
                    </a:moveTo>
                    <a:lnTo>
                      <a:pt x="0" y="6"/>
                    </a:lnTo>
                    <a:lnTo>
                      <a:pt x="62" y="61"/>
                    </a:lnTo>
                    <a:lnTo>
                      <a:pt x="69" y="5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1896120" y="3154680"/>
                <a:ext cx="16380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2400480" y="3154680"/>
                <a:ext cx="28548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2631600" y="3228480"/>
                <a:ext cx="823320" cy="503280"/>
              </a:xfrm>
              <a:custGeom>
                <a:avLst/>
                <a:gdLst/>
                <a:ahLst/>
                <a:rect l="l" t="t" r="r" b="b"/>
                <a:pathLst>
                  <a:path w="513" h="328">
                    <a:moveTo>
                      <a:pt x="0" y="322"/>
                    </a:moveTo>
                    <a:lnTo>
                      <a:pt x="7" y="328"/>
                    </a:lnTo>
                    <a:lnTo>
                      <a:pt x="513" y="0"/>
                    </a:lnTo>
                    <a:lnTo>
                      <a:pt x="506" y="0"/>
                    </a:lnTo>
                    <a:lnTo>
                      <a:pt x="0" y="3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2708280" y="3669120"/>
                <a:ext cx="97920" cy="95400"/>
              </a:xfrm>
              <a:custGeom>
                <a:avLst/>
                <a:gdLst/>
                <a:ahLst/>
                <a:rect l="l" t="t" r="r" b="b"/>
                <a:pathLst>
                  <a:path w="61" h="62">
                    <a:moveTo>
                      <a:pt x="54" y="62"/>
                    </a:moveTo>
                    <a:lnTo>
                      <a:pt x="61" y="55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54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4079160" y="2232000"/>
                <a:ext cx="45000" cy="30600"/>
              </a:xfrm>
              <a:custGeom>
                <a:avLst/>
                <a:gdLst/>
                <a:ahLst/>
                <a:rect l="l" t="t" r="r" b="b"/>
                <a:pathLst>
                  <a:path w="28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4133880" y="22212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4167720" y="2189160"/>
                <a:ext cx="43200" cy="31680"/>
              </a:xfrm>
              <a:custGeom>
                <a:avLst/>
                <a:gdLst/>
                <a:ahLst/>
                <a:rect l="l" t="t" r="r" b="b"/>
                <a:pathLst>
                  <a:path w="27" h="21">
                    <a:moveTo>
                      <a:pt x="7" y="14"/>
                    </a:moveTo>
                    <a:lnTo>
                      <a:pt x="7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7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4233600" y="2179800"/>
                <a:ext cx="21960" cy="936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0" y="6"/>
                    </a:move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14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4265640" y="2158200"/>
                <a:ext cx="44640" cy="21240"/>
              </a:xfrm>
              <a:custGeom>
                <a:avLst/>
                <a:gdLst/>
                <a:ahLst/>
                <a:rect l="l" t="t" r="r" b="b"/>
                <a:pathLst>
                  <a:path w="28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1" y="7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4331520" y="2136960"/>
                <a:ext cx="1080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4353840" y="2116800"/>
                <a:ext cx="43200" cy="20160"/>
              </a:xfrm>
              <a:custGeom>
                <a:avLst/>
                <a:gdLst/>
                <a:ahLst/>
                <a:rect l="l" t="t" r="r" b="b"/>
                <a:pathLst>
                  <a:path w="27" h="13">
                    <a:moveTo>
                      <a:pt x="7" y="6"/>
                    </a:moveTo>
                    <a:lnTo>
                      <a:pt x="7" y="6"/>
                    </a:lnTo>
                    <a:lnTo>
                      <a:pt x="7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4419720" y="209556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4453560" y="2073960"/>
                <a:ext cx="43200" cy="2124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7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4519440" y="2063160"/>
                <a:ext cx="9360" cy="1044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4551480" y="2032560"/>
                <a:ext cx="43200" cy="2124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14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1" y="7"/>
                    </a:lnTo>
                    <a:lnTo>
                      <a:pt x="21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4606200" y="202176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4639680" y="1991160"/>
                <a:ext cx="43200" cy="30600"/>
              </a:xfrm>
              <a:custGeom>
                <a:avLst/>
                <a:gdLst/>
                <a:ahLst/>
                <a:rect l="l" t="t" r="r" b="b"/>
                <a:pathLst>
                  <a:path w="27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7" y="20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4694040" y="19803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1567080" y="1077120"/>
                <a:ext cx="1327320" cy="734040"/>
              </a:xfrm>
              <a:prstGeom prst="ellipse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1928160" y="1203120"/>
                <a:ext cx="70308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1928160" y="1203120"/>
                <a:ext cx="62604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1928160" y="1213920"/>
                <a:ext cx="63720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1928160" y="1213920"/>
                <a:ext cx="69192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1928160" y="1224720"/>
                <a:ext cx="6919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1928520" y="1224720"/>
                <a:ext cx="5965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lternativ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2039040" y="1350720"/>
                <a:ext cx="471600" cy="19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2039040" y="1350720"/>
                <a:ext cx="4154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2039040" y="1350720"/>
                <a:ext cx="43776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2039040" y="1359720"/>
                <a:ext cx="49248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2039040" y="1370520"/>
                <a:ext cx="4924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2038320" y="1370520"/>
                <a:ext cx="410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cces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1994040" y="1496520"/>
                <a:ext cx="54864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1994040" y="1496520"/>
                <a:ext cx="5054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1962000" y="1507320"/>
                <a:ext cx="49284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1962000" y="1517760"/>
                <a:ext cx="5583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1962000" y="1528560"/>
                <a:ext cx="5486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1962000" y="1528560"/>
                <a:ext cx="465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4068000" y="1937160"/>
                <a:ext cx="274320" cy="179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4113000" y="1947960"/>
                <a:ext cx="27432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4113000" y="1958760"/>
                <a:ext cx="2404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4113000" y="1958760"/>
                <a:ext cx="19728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4113000" y="1969560"/>
                <a:ext cx="19728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4113000" y="1980360"/>
                <a:ext cx="2516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4113000" y="198036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h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4321800" y="2063160"/>
                <a:ext cx="120240" cy="147240"/>
              </a:xfrm>
              <a:custGeom>
                <a:avLst/>
                <a:gdLst/>
                <a:ahLst/>
                <a:rect l="l" t="t" r="r" b="b"/>
                <a:pathLst>
                  <a:path w="75" h="96">
                    <a:moveTo>
                      <a:pt x="6" y="0"/>
                    </a:moveTo>
                    <a:lnTo>
                      <a:pt x="0" y="0"/>
                    </a:lnTo>
                    <a:lnTo>
                      <a:pt x="68" y="96"/>
                    </a:lnTo>
                    <a:lnTo>
                      <a:pt x="75" y="8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5670360" y="1706760"/>
                <a:ext cx="494640" cy="2210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5770080" y="1748160"/>
                <a:ext cx="3722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5770080" y="1748160"/>
                <a:ext cx="32904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5770080" y="1748160"/>
                <a:ext cx="317520" cy="14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5770080" y="1758960"/>
                <a:ext cx="38340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5770080" y="1769760"/>
                <a:ext cx="37224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5769720" y="1769760"/>
                <a:ext cx="311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CSCF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4639680" y="2325600"/>
                <a:ext cx="492840" cy="2318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4737600" y="2368440"/>
                <a:ext cx="3740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4737600" y="2379240"/>
                <a:ext cx="32904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4737600" y="2379240"/>
                <a:ext cx="319320" cy="13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4737600" y="2388600"/>
                <a:ext cx="38520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4737600" y="2388600"/>
                <a:ext cx="38520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4736520" y="2388600"/>
                <a:ext cx="311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CSCF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5111640" y="2305800"/>
                <a:ext cx="3168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3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5155200" y="227340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5188680" y="2242800"/>
                <a:ext cx="3204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6" y="2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5231880" y="22212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5264280" y="2179800"/>
                <a:ext cx="33480" cy="3060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7" y="20"/>
                    </a:lnTo>
                    <a:lnTo>
                      <a:pt x="21" y="6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5320440" y="214740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5340960" y="2116800"/>
                <a:ext cx="45000" cy="30600"/>
              </a:xfrm>
              <a:custGeom>
                <a:avLst/>
                <a:gdLst/>
                <a:ahLst/>
                <a:rect l="l" t="t" r="r" b="b"/>
                <a:pathLst>
                  <a:path w="28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21" y="6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5397480" y="2095560"/>
                <a:ext cx="9360" cy="1044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5418360" y="2053800"/>
                <a:ext cx="44640" cy="30960"/>
              </a:xfrm>
              <a:custGeom>
                <a:avLst/>
                <a:gdLst/>
                <a:ahLst/>
                <a:rect l="l" t="t" r="r" b="b"/>
                <a:pathLst>
                  <a:path w="28" h="20">
                    <a:moveTo>
                      <a:pt x="7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13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7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5472720" y="20325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5506560" y="1991160"/>
                <a:ext cx="3168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20" y="6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5550120" y="196956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5583600" y="1928160"/>
                <a:ext cx="3168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5626800" y="19065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5660640" y="1874520"/>
                <a:ext cx="9360" cy="21240"/>
              </a:xfrm>
              <a:custGeom>
                <a:avLst/>
                <a:gdLst/>
                <a:ahLst/>
                <a:rect l="l" t="t" r="r" b="b"/>
                <a:pathLst>
                  <a:path w="6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5386320" y="2053800"/>
                <a:ext cx="109080" cy="104400"/>
              </a:xfrm>
              <a:custGeom>
                <a:avLst/>
                <a:gdLst/>
                <a:ahLst/>
                <a:rect l="l" t="t" r="r" b="b"/>
                <a:pathLst>
                  <a:path w="68" h="68">
                    <a:moveTo>
                      <a:pt x="7" y="0"/>
                    </a:moveTo>
                    <a:lnTo>
                      <a:pt x="0" y="6"/>
                    </a:lnTo>
                    <a:lnTo>
                      <a:pt x="61" y="68"/>
                    </a:lnTo>
                    <a:lnTo>
                      <a:pt x="68" y="6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5484240" y="2505240"/>
                <a:ext cx="28548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5538600" y="2514600"/>
                <a:ext cx="263160" cy="21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5538600" y="2525400"/>
                <a:ext cx="2311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5538600" y="2525400"/>
                <a:ext cx="19728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5538600" y="2535840"/>
                <a:ext cx="2530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5538600" y="2546640"/>
                <a:ext cx="2422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5538600" y="254664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6516360" y="2955240"/>
                <a:ext cx="66924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6570720" y="2976840"/>
                <a:ext cx="64656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6570720" y="2976840"/>
                <a:ext cx="5922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6570720" y="2976840"/>
                <a:ext cx="58068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6570720" y="2987640"/>
                <a:ext cx="6465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6570720" y="2998080"/>
                <a:ext cx="6465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6571080" y="2998080"/>
                <a:ext cx="549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-SGW *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6965640" y="3491280"/>
                <a:ext cx="22320" cy="4140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7" y="21"/>
                    </a:moveTo>
                    <a:lnTo>
                      <a:pt x="14" y="21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6943320" y="3460680"/>
                <a:ext cx="22320" cy="900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7" y="6"/>
                    </a:move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14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6922440" y="3397680"/>
                <a:ext cx="20520" cy="4140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7" y="27"/>
                    </a:moveTo>
                    <a:lnTo>
                      <a:pt x="7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7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6911280" y="336528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0" y="7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6877440" y="3313080"/>
                <a:ext cx="22320" cy="4140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7" y="20"/>
                    </a:moveTo>
                    <a:lnTo>
                      <a:pt x="7" y="20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6856560" y="328104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6833880" y="3217680"/>
                <a:ext cx="22320" cy="42480"/>
              </a:xfrm>
              <a:custGeom>
                <a:avLst/>
                <a:gdLst/>
                <a:ahLst/>
                <a:rect l="l" t="t" r="r" b="b"/>
                <a:pathLst>
                  <a:path w="14" h="28">
                    <a:moveTo>
                      <a:pt x="7" y="28"/>
                    </a:move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6822720" y="318708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6790680" y="313488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13" y="20"/>
                    </a:moveTo>
                    <a:lnTo>
                      <a:pt x="13" y="20"/>
                    </a:lnTo>
                    <a:lnTo>
                      <a:pt x="13" y="27"/>
                    </a:lnTo>
                    <a:lnTo>
                      <a:pt x="13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6471360" y="4404960"/>
                <a:ext cx="669240" cy="1886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6527520" y="4426200"/>
                <a:ext cx="646560" cy="19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6527520" y="4435560"/>
                <a:ext cx="5922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6527520" y="4435560"/>
                <a:ext cx="58068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6527520" y="4446360"/>
                <a:ext cx="6465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6527520" y="4457160"/>
                <a:ext cx="6465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6527880" y="4457160"/>
                <a:ext cx="549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-SGW *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6768360" y="4341960"/>
                <a:ext cx="21960" cy="4140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0" y="27"/>
                    </a:move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6801840" y="4320360"/>
                <a:ext cx="9720" cy="1044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0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6822720" y="4257360"/>
                <a:ext cx="22320" cy="42840"/>
              </a:xfrm>
              <a:custGeom>
                <a:avLst/>
                <a:gdLst/>
                <a:ahLst/>
                <a:rect l="l" t="t" r="r" b="b"/>
                <a:pathLst>
                  <a:path w="14" h="28">
                    <a:moveTo>
                      <a:pt x="0" y="21"/>
                    </a:moveTo>
                    <a:lnTo>
                      <a:pt x="0" y="21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7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6856560" y="42361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6877440" y="4183920"/>
                <a:ext cx="33840" cy="3168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0" y="21"/>
                    </a:move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7" y="21"/>
                    </a:lnTo>
                    <a:lnTo>
                      <a:pt x="14" y="7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6911280" y="415332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6933960" y="410112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0" y="20"/>
                    </a:move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0"/>
                    </a:lnTo>
                    <a:lnTo>
                      <a:pt x="6" y="20"/>
                    </a:lnTo>
                    <a:lnTo>
                      <a:pt x="13" y="6"/>
                    </a:lnTo>
                    <a:lnTo>
                      <a:pt x="20" y="6"/>
                    </a:lnTo>
                    <a:lnTo>
                      <a:pt x="20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6965640" y="406872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4387680" y="5181840"/>
                <a:ext cx="67860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4528800" y="5212440"/>
                <a:ext cx="47160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4528800" y="5212440"/>
                <a:ext cx="4284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4528800" y="5212440"/>
                <a:ext cx="41724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4528800" y="5223240"/>
                <a:ext cx="4716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4528800" y="5234040"/>
                <a:ext cx="4716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4528800" y="5234040"/>
                <a:ext cx="386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HSS *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3421080" y="2295000"/>
                <a:ext cx="68076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3564360" y="2305800"/>
                <a:ext cx="471600" cy="20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3564360" y="2314800"/>
                <a:ext cx="42696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3564360" y="2314800"/>
                <a:ext cx="41688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3564360" y="2325600"/>
                <a:ext cx="4716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3564360" y="2336400"/>
                <a:ext cx="4716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3564360" y="2336400"/>
                <a:ext cx="386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HSS *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2565720" y="5013000"/>
                <a:ext cx="1141200" cy="557280"/>
              </a:xfrm>
              <a:prstGeom prst="ellipse">
                <a:avLst/>
              </a:prstGeom>
              <a:solidFill>
                <a:srgbClr val="f2f2f2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2795040" y="5108040"/>
                <a:ext cx="79128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2795040" y="5118840"/>
                <a:ext cx="7030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2795040" y="5118840"/>
                <a:ext cx="7257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2795040" y="5129640"/>
                <a:ext cx="7804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2795040" y="5139000"/>
                <a:ext cx="78048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2795040" y="5139000"/>
                <a:ext cx="680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pplication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2774160" y="5255640"/>
                <a:ext cx="833040" cy="19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2774160" y="5264640"/>
                <a:ext cx="7466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2774160" y="5264640"/>
                <a:ext cx="77868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2774160" y="5275440"/>
                <a:ext cx="8330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2774160" y="5275440"/>
                <a:ext cx="83304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2774160" y="5275440"/>
                <a:ext cx="732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&amp; Services *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3398760" y="4383360"/>
                <a:ext cx="85680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3509640" y="4404960"/>
                <a:ext cx="73476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3509640" y="4404960"/>
                <a:ext cx="7347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3509640" y="4415760"/>
                <a:ext cx="712440" cy="15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3509640" y="4415760"/>
                <a:ext cx="70128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3509640" y="4426200"/>
                <a:ext cx="3495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3510000" y="4426200"/>
                <a:ext cx="281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S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3793680" y="4426200"/>
                <a:ext cx="4719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3793680" y="442620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3826080" y="4426200"/>
                <a:ext cx="354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5188680" y="4394160"/>
                <a:ext cx="85572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5243040" y="4415760"/>
                <a:ext cx="84456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5243040" y="4415760"/>
                <a:ext cx="8330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5243040" y="4415760"/>
                <a:ext cx="81252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5243040" y="4426200"/>
                <a:ext cx="86688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5243040" y="4435560"/>
                <a:ext cx="86688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5243040" y="4435560"/>
                <a:ext cx="768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MSC serve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4671720" y="4467960"/>
                <a:ext cx="56160" cy="10440"/>
              </a:xfrm>
              <a:custGeom>
                <a:avLst/>
                <a:gdLst/>
                <a:ahLst/>
                <a:rect l="l" t="t" r="r" b="b"/>
                <a:pathLst>
                  <a:path w="35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3223800" y="3753720"/>
                <a:ext cx="22320" cy="136440"/>
              </a:xfrm>
              <a:custGeom>
                <a:avLst/>
                <a:gdLst/>
                <a:ahLst/>
                <a:rect l="l" t="t" r="r" b="b"/>
                <a:pathLst>
                  <a:path w="14" h="89">
                    <a:moveTo>
                      <a:pt x="0" y="89"/>
                    </a:moveTo>
                    <a:lnTo>
                      <a:pt x="14" y="89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0" y="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2740680" y="3921120"/>
                <a:ext cx="99360" cy="105840"/>
              </a:xfrm>
              <a:custGeom>
                <a:avLst/>
                <a:gdLst/>
                <a:ahLst/>
                <a:rect l="l" t="t" r="r" b="b"/>
                <a:pathLst>
                  <a:path w="62" h="69">
                    <a:moveTo>
                      <a:pt x="0" y="62"/>
                    </a:moveTo>
                    <a:lnTo>
                      <a:pt x="0" y="69"/>
                    </a:lnTo>
                    <a:lnTo>
                      <a:pt x="62" y="7"/>
                    </a:lnTo>
                    <a:lnTo>
                      <a:pt x="55" y="0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4880520" y="4982400"/>
                <a:ext cx="33480" cy="3060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0" y="20"/>
                    </a:move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14" y="7"/>
                    </a:lnTo>
                    <a:lnTo>
                      <a:pt x="21" y="7"/>
                    </a:lnTo>
                    <a:lnTo>
                      <a:pt x="21" y="7"/>
                    </a:lnTo>
                    <a:lnTo>
                      <a:pt x="21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5935320" y="4057920"/>
                <a:ext cx="283680" cy="178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5989680" y="4079520"/>
                <a:ext cx="26316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5495400" y="4079520"/>
                <a:ext cx="23112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5495400" y="4079520"/>
                <a:ext cx="1857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5495400" y="4090320"/>
                <a:ext cx="18576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5495400" y="4101120"/>
                <a:ext cx="2404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5495400" y="4101120"/>
                <a:ext cx="16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3738960" y="4120920"/>
                <a:ext cx="1861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3925440" y="4037760"/>
                <a:ext cx="28548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3981240" y="4057920"/>
                <a:ext cx="25200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981240" y="4057920"/>
                <a:ext cx="2296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3981240" y="4057920"/>
                <a:ext cx="18612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3981240" y="4068720"/>
                <a:ext cx="18612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3981240" y="4079520"/>
                <a:ext cx="2408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3981240" y="4079520"/>
                <a:ext cx="16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4024800" y="4930200"/>
                <a:ext cx="48312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4113000" y="4950000"/>
                <a:ext cx="37224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4156560" y="4950000"/>
                <a:ext cx="3402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4156560" y="4950000"/>
                <a:ext cx="10908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4156560" y="4960800"/>
                <a:ext cx="1652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4156560" y="4971600"/>
                <a:ext cx="1652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4156200" y="497160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4277160" y="4897800"/>
                <a:ext cx="99360" cy="106200"/>
              </a:xfrm>
              <a:custGeom>
                <a:avLst/>
                <a:gdLst/>
                <a:ahLst/>
                <a:rect l="l" t="t" r="r" b="b"/>
                <a:pathLst>
                  <a:path w="62" h="69">
                    <a:moveTo>
                      <a:pt x="0" y="62"/>
                    </a:moveTo>
                    <a:lnTo>
                      <a:pt x="7" y="69"/>
                    </a:lnTo>
                    <a:lnTo>
                      <a:pt x="62" y="7"/>
                    </a:lnTo>
                    <a:lnTo>
                      <a:pt x="55" y="0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4848480" y="4971600"/>
                <a:ext cx="580680" cy="167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5000760" y="4982400"/>
                <a:ext cx="374040" cy="21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5045760" y="4993200"/>
                <a:ext cx="3402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045760" y="4993200"/>
                <a:ext cx="10908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5045760" y="5004000"/>
                <a:ext cx="1638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5045760" y="5013000"/>
                <a:ext cx="1638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5046120" y="501300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4869360" y="4930200"/>
                <a:ext cx="153720" cy="82800"/>
              </a:xfrm>
              <a:custGeom>
                <a:avLst/>
                <a:gdLst/>
                <a:ahLst/>
                <a:rect l="l" t="t" r="r" b="b"/>
                <a:pathLst>
                  <a:path w="96" h="54">
                    <a:moveTo>
                      <a:pt x="7" y="0"/>
                    </a:moveTo>
                    <a:lnTo>
                      <a:pt x="0" y="7"/>
                    </a:lnTo>
                    <a:lnTo>
                      <a:pt x="89" y="54"/>
                    </a:lnTo>
                    <a:lnTo>
                      <a:pt x="96" y="4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3246480" y="1528560"/>
                <a:ext cx="481320" cy="282600"/>
              </a:xfrm>
              <a:prstGeom prst="rect">
                <a:avLst/>
              </a:prstGeom>
              <a:solidFill>
                <a:srgbClr val="ffff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344400" y="1580760"/>
                <a:ext cx="31752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3344400" y="1580760"/>
                <a:ext cx="2966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3344400" y="1580760"/>
                <a:ext cx="28548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3344400" y="1591560"/>
                <a:ext cx="33984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3344400" y="1602360"/>
                <a:ext cx="3398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3344400" y="1602360"/>
                <a:ext cx="25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C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3498120" y="179100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20" y="7"/>
                    </a:move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7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2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3464280" y="1843560"/>
                <a:ext cx="33840" cy="41400"/>
              </a:xfrm>
              <a:custGeom>
                <a:avLst/>
                <a:gdLst/>
                <a:ahLst/>
                <a:rect l="l" t="t" r="r" b="b"/>
                <a:pathLst>
                  <a:path w="21" h="27">
                    <a:moveTo>
                      <a:pt x="21" y="7"/>
                    </a:move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2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3432240" y="189576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20" y="7"/>
                    </a:moveTo>
                    <a:lnTo>
                      <a:pt x="20" y="7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2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3409920" y="1947960"/>
                <a:ext cx="22320" cy="42840"/>
              </a:xfrm>
              <a:custGeom>
                <a:avLst/>
                <a:gdLst/>
                <a:ahLst/>
                <a:rect l="l" t="t" r="r" b="b"/>
                <a:pathLst>
                  <a:path w="14" h="28">
                    <a:moveTo>
                      <a:pt x="14" y="7"/>
                    </a:move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14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377880" y="2010960"/>
                <a:ext cx="20880" cy="32040"/>
              </a:xfrm>
              <a:custGeom>
                <a:avLst/>
                <a:gdLst/>
                <a:ahLst/>
                <a:rect l="l" t="t" r="r" b="b"/>
                <a:pathLst>
                  <a:path w="13" h="21">
                    <a:moveTo>
                      <a:pt x="13" y="0"/>
                    </a:move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3344400" y="2063160"/>
                <a:ext cx="21960" cy="32040"/>
              </a:xfrm>
              <a:custGeom>
                <a:avLst/>
                <a:gdLst/>
                <a:ahLst/>
                <a:rect l="l" t="t" r="r" b="b"/>
                <a:pathLst>
                  <a:path w="14" h="21">
                    <a:moveTo>
                      <a:pt x="14" y="0"/>
                    </a:move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3300840" y="211680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20" y="6"/>
                    </a:move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3" y="0"/>
                    </a:lnTo>
                    <a:lnTo>
                      <a:pt x="7" y="20"/>
                    </a:lnTo>
                    <a:lnTo>
                      <a:pt x="0" y="20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2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3267000" y="2169000"/>
                <a:ext cx="33840" cy="41400"/>
              </a:xfrm>
              <a:custGeom>
                <a:avLst/>
                <a:gdLst/>
                <a:ahLst/>
                <a:rect l="l" t="t" r="r" b="b"/>
                <a:pathLst>
                  <a:path w="21" h="27">
                    <a:moveTo>
                      <a:pt x="21" y="7"/>
                    </a:move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2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3246480" y="2221200"/>
                <a:ext cx="20520" cy="4140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13" y="7"/>
                    </a:move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13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212640" y="2273400"/>
                <a:ext cx="22320" cy="4140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14" y="7"/>
                    </a:move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14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3180600" y="2325600"/>
                <a:ext cx="20520" cy="42480"/>
              </a:xfrm>
              <a:custGeom>
                <a:avLst/>
                <a:gdLst/>
                <a:ahLst/>
                <a:rect l="l" t="t" r="r" b="b"/>
                <a:pathLst>
                  <a:path w="13" h="28">
                    <a:moveTo>
                      <a:pt x="13" y="7"/>
                    </a:move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7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13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3146760" y="2379240"/>
                <a:ext cx="22320" cy="4140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14" y="6"/>
                    </a:move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6"/>
                    </a:lnTo>
                    <a:lnTo>
                      <a:pt x="7" y="6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0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14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3169080" y="2442240"/>
                <a:ext cx="20520" cy="3060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3201120" y="2494440"/>
                <a:ext cx="33840" cy="3060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21" y="20"/>
                    </a:lnTo>
                    <a:lnTo>
                      <a:pt x="14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234960" y="2546640"/>
                <a:ext cx="3168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3267000" y="2599200"/>
                <a:ext cx="33840" cy="3204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3312000" y="2651400"/>
                <a:ext cx="32040" cy="3168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20" y="21"/>
                    </a:lnTo>
                    <a:lnTo>
                      <a:pt x="13" y="2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3344400" y="2694240"/>
                <a:ext cx="33480" cy="41400"/>
              </a:xfrm>
              <a:custGeom>
                <a:avLst/>
                <a:gdLst/>
                <a:ahLst/>
                <a:rect l="l" t="t" r="r" b="b"/>
                <a:pathLst>
                  <a:path w="21" h="27">
                    <a:moveTo>
                      <a:pt x="7" y="6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0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3377880" y="274644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421080" y="2798640"/>
                <a:ext cx="22320" cy="4140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454920" y="285084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3486960" y="2903040"/>
                <a:ext cx="33840" cy="42840"/>
              </a:xfrm>
              <a:custGeom>
                <a:avLst/>
                <a:gdLst/>
                <a:ahLst/>
                <a:rect l="l" t="t" r="r" b="b"/>
                <a:pathLst>
                  <a:path w="21" h="28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4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3530160" y="2955240"/>
                <a:ext cx="22320" cy="42480"/>
              </a:xfrm>
              <a:custGeom>
                <a:avLst/>
                <a:gdLst/>
                <a:ahLst/>
                <a:rect l="l" t="t" r="r" b="b"/>
                <a:pathLst>
                  <a:path w="14" h="28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3564360" y="300888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14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596400" y="3061080"/>
                <a:ext cx="33840" cy="41400"/>
              </a:xfrm>
              <a:custGeom>
                <a:avLst/>
                <a:gdLst/>
                <a:ahLst/>
                <a:rect l="l" t="t" r="r" b="b"/>
                <a:pathLst>
                  <a:path w="21" h="2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3641040" y="3113280"/>
                <a:ext cx="20880" cy="4140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3673440" y="3165480"/>
                <a:ext cx="33480" cy="42840"/>
              </a:xfrm>
              <a:custGeom>
                <a:avLst/>
                <a:gdLst/>
                <a:ahLst/>
                <a:rect l="l" t="t" r="r" b="b"/>
                <a:pathLst>
                  <a:path w="21" h="28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4" y="21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3246480" y="2063160"/>
                <a:ext cx="481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3332880" y="2116800"/>
                <a:ext cx="35100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332880" y="2116800"/>
                <a:ext cx="3189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3332880" y="2116800"/>
                <a:ext cx="28548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3332880" y="2126160"/>
                <a:ext cx="3510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3332880" y="2136960"/>
                <a:ext cx="3402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3333600" y="2136960"/>
                <a:ext cx="25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A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3728160" y="2861640"/>
                <a:ext cx="1080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728160" y="2924640"/>
                <a:ext cx="1080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3728160" y="2966040"/>
                <a:ext cx="10800" cy="42480"/>
              </a:xfrm>
              <a:custGeom>
                <a:avLst/>
                <a:gdLst/>
                <a:ahLst/>
                <a:rect l="l" t="t" r="r" b="b"/>
                <a:pathLst>
                  <a:path w="7" h="28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21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3728160" y="3029040"/>
                <a:ext cx="1080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3728160" y="3061080"/>
                <a:ext cx="1080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3728160" y="3124080"/>
                <a:ext cx="1080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3728160" y="3154680"/>
                <a:ext cx="10800" cy="53640"/>
              </a:xfrm>
              <a:custGeom>
                <a:avLst/>
                <a:gdLst/>
                <a:ahLst/>
                <a:rect l="l" t="t" r="r" b="b"/>
                <a:pathLst>
                  <a:path w="7" h="35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3246480" y="2147400"/>
                <a:ext cx="86400" cy="522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3630240" y="3742920"/>
                <a:ext cx="48276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3695760" y="3764520"/>
                <a:ext cx="42876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3695760" y="3764520"/>
                <a:ext cx="3834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3695760" y="3764520"/>
                <a:ext cx="3513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3695760" y="3775320"/>
                <a:ext cx="4172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3695760" y="3786120"/>
                <a:ext cx="4172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3696840" y="3786120"/>
                <a:ext cx="323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GW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620080" y="3816720"/>
                <a:ext cx="10098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4090680" y="3816720"/>
                <a:ext cx="1579320" cy="21240"/>
              </a:xfrm>
              <a:custGeom>
                <a:avLst/>
                <a:gdLst/>
                <a:ahLst/>
                <a:rect l="l" t="t" r="r" b="b"/>
                <a:pathLst>
                  <a:path w="984" h="14">
                    <a:moveTo>
                      <a:pt x="0" y="0"/>
                    </a:moveTo>
                    <a:lnTo>
                      <a:pt x="0" y="14"/>
                    </a:lnTo>
                    <a:lnTo>
                      <a:pt x="984" y="14"/>
                    </a:lnTo>
                    <a:lnTo>
                      <a:pt x="984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4573800" y="3868920"/>
                <a:ext cx="27468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4628160" y="3890160"/>
                <a:ext cx="24084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4628160" y="3890160"/>
                <a:ext cx="2199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4628160" y="3890160"/>
                <a:ext cx="1749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4628160" y="3900960"/>
                <a:ext cx="1749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4628160" y="3911760"/>
                <a:ext cx="2311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4628160" y="3911760"/>
                <a:ext cx="162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4606200" y="4278960"/>
                <a:ext cx="274320" cy="178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4671720" y="4300560"/>
                <a:ext cx="231120" cy="19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4671720" y="4300560"/>
                <a:ext cx="2088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4617360" y="4236120"/>
                <a:ext cx="17640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4617360" y="4246920"/>
                <a:ext cx="17640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4617360" y="4257360"/>
                <a:ext cx="2311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4617000" y="4257360"/>
                <a:ext cx="15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4716720" y="3753720"/>
                <a:ext cx="1440" cy="1472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4694040" y="4404960"/>
                <a:ext cx="11160" cy="1256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3267000" y="3586320"/>
                <a:ext cx="242280" cy="189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3180600" y="3595680"/>
                <a:ext cx="18576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3180600" y="3606480"/>
                <a:ext cx="1746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180600" y="3606480"/>
                <a:ext cx="13140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3180600" y="3617280"/>
                <a:ext cx="13140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3180600" y="3617280"/>
                <a:ext cx="18576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3180600" y="361728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3289680" y="3586320"/>
                <a:ext cx="99360" cy="136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3289680" y="3586320"/>
                <a:ext cx="87840" cy="11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114720" y="3900960"/>
                <a:ext cx="18612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3114720" y="3900960"/>
                <a:ext cx="1749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2554200" y="3963960"/>
                <a:ext cx="1317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2554200" y="3974760"/>
                <a:ext cx="1317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554200" y="3984120"/>
                <a:ext cx="18612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2553480" y="398412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3223800" y="3879720"/>
                <a:ext cx="87840" cy="12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5034600" y="527544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5111640" y="5275440"/>
                <a:ext cx="31680" cy="10440"/>
              </a:xfrm>
              <a:custGeom>
                <a:avLst/>
                <a:gdLst/>
                <a:ahLst/>
                <a:rect l="l" t="t" r="r" b="b"/>
                <a:pathLst>
                  <a:path w="20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20" y="7"/>
                    </a:lnTo>
                    <a:lnTo>
                      <a:pt x="20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5166360" y="527544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2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5243040" y="5275440"/>
                <a:ext cx="2088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5286600" y="527544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5363640" y="5275440"/>
                <a:ext cx="33840" cy="10440"/>
              </a:xfrm>
              <a:custGeom>
                <a:avLst/>
                <a:gdLst/>
                <a:ahLst/>
                <a:rect l="l" t="t" r="r" b="b"/>
                <a:pathLst>
                  <a:path w="21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21" y="7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5406840" y="5192640"/>
                <a:ext cx="801000" cy="19800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5484240" y="5223240"/>
                <a:ext cx="70272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5484240" y="5223240"/>
                <a:ext cx="6033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5484240" y="5223240"/>
                <a:ext cx="59220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5484240" y="5234040"/>
                <a:ext cx="6580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5484240" y="5244840"/>
                <a:ext cx="6580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5484960" y="5244840"/>
                <a:ext cx="563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-SGW *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5221080" y="5212440"/>
                <a:ext cx="10800" cy="136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5066640" y="4971600"/>
                <a:ext cx="23112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3103200" y="498240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0" y="20"/>
                    </a:move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3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3146760" y="4941000"/>
                <a:ext cx="22320" cy="1980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0" y="6"/>
                    </a:move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3180600" y="4876560"/>
                <a:ext cx="31680" cy="53280"/>
              </a:xfrm>
              <a:custGeom>
                <a:avLst/>
                <a:gdLst/>
                <a:ahLst/>
                <a:rect l="l" t="t" r="r" b="b"/>
                <a:pathLst>
                  <a:path w="20" h="35">
                    <a:moveTo>
                      <a:pt x="0" y="28"/>
                    </a:moveTo>
                    <a:lnTo>
                      <a:pt x="0" y="28"/>
                    </a:lnTo>
                    <a:lnTo>
                      <a:pt x="0" y="28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28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223800" y="484560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3246480" y="478296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0" y="20"/>
                    </a:move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6" y="27"/>
                    </a:lnTo>
                    <a:lnTo>
                      <a:pt x="6" y="27"/>
                    </a:lnTo>
                    <a:lnTo>
                      <a:pt x="6" y="27"/>
                    </a:lnTo>
                    <a:lnTo>
                      <a:pt x="6" y="27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3289680" y="4750560"/>
                <a:ext cx="2196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3321720" y="4687200"/>
                <a:ext cx="33480" cy="42840"/>
              </a:xfrm>
              <a:custGeom>
                <a:avLst/>
                <a:gdLst/>
                <a:ahLst/>
                <a:rect l="l" t="t" r="r" b="b"/>
                <a:pathLst>
                  <a:path w="21" h="28">
                    <a:moveTo>
                      <a:pt x="0" y="21"/>
                    </a:moveTo>
                    <a:lnTo>
                      <a:pt x="0" y="21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3366360" y="464580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7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389040" y="4582800"/>
                <a:ext cx="43200" cy="52200"/>
              </a:xfrm>
              <a:custGeom>
                <a:avLst/>
                <a:gdLst/>
                <a:ahLst/>
                <a:rect l="l" t="t" r="r" b="b"/>
                <a:pathLst>
                  <a:path w="27" h="34">
                    <a:moveTo>
                      <a:pt x="0" y="27"/>
                    </a:moveTo>
                    <a:lnTo>
                      <a:pt x="0" y="27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6" y="34"/>
                    </a:lnTo>
                    <a:lnTo>
                      <a:pt x="6" y="34"/>
                    </a:lnTo>
                    <a:lnTo>
                      <a:pt x="6" y="34"/>
                    </a:lnTo>
                    <a:lnTo>
                      <a:pt x="6" y="34"/>
                    </a:lnTo>
                    <a:lnTo>
                      <a:pt x="6" y="34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5143680" y="5370480"/>
                <a:ext cx="2534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5143680" y="5370480"/>
                <a:ext cx="20844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5143680" y="5381280"/>
                <a:ext cx="19728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5143680" y="5390640"/>
                <a:ext cx="2534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5143320" y="539064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h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4013280" y="4561560"/>
                <a:ext cx="33840" cy="42480"/>
              </a:xfrm>
              <a:custGeom>
                <a:avLst/>
                <a:gdLst/>
                <a:ahLst/>
                <a:rect l="l" t="t" r="r" b="b"/>
                <a:pathLst>
                  <a:path w="21" h="28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4058640" y="4624200"/>
                <a:ext cx="20520" cy="2124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4090680" y="4656600"/>
                <a:ext cx="33840" cy="52200"/>
              </a:xfrm>
              <a:custGeom>
                <a:avLst/>
                <a:gdLst/>
                <a:ahLst/>
                <a:rect l="l" t="t" r="r" b="b"/>
                <a:pathLst>
                  <a:path w="21" h="34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4" y="27"/>
                    </a:lnTo>
                    <a:lnTo>
                      <a:pt x="14" y="34"/>
                    </a:lnTo>
                    <a:lnTo>
                      <a:pt x="21" y="34"/>
                    </a:lnTo>
                    <a:lnTo>
                      <a:pt x="21" y="34"/>
                    </a:lnTo>
                    <a:lnTo>
                      <a:pt x="21" y="34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4133880" y="471960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4167720" y="4750560"/>
                <a:ext cx="31680" cy="53280"/>
              </a:xfrm>
              <a:custGeom>
                <a:avLst/>
                <a:gdLst/>
                <a:ahLst/>
                <a:rect l="l" t="t" r="r" b="b"/>
                <a:pathLst>
                  <a:path w="20" h="35">
                    <a:moveTo>
                      <a:pt x="7" y="7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4" y="28"/>
                    </a:lnTo>
                    <a:lnTo>
                      <a:pt x="14" y="35"/>
                    </a:lnTo>
                    <a:lnTo>
                      <a:pt x="14" y="35"/>
                    </a:lnTo>
                    <a:lnTo>
                      <a:pt x="20" y="35"/>
                    </a:lnTo>
                    <a:lnTo>
                      <a:pt x="20" y="35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4210920" y="481356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14" y="14"/>
                    </a:lnTo>
                    <a:lnTo>
                      <a:pt x="14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4233600" y="4856400"/>
                <a:ext cx="43200" cy="4140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7" y="27"/>
                    </a:lnTo>
                    <a:lnTo>
                      <a:pt x="27" y="27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4288320" y="4908600"/>
                <a:ext cx="1080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4310640" y="4950000"/>
                <a:ext cx="43200" cy="42840"/>
              </a:xfrm>
              <a:custGeom>
                <a:avLst/>
                <a:gdLst/>
                <a:ahLst/>
                <a:rect l="l" t="t" r="r" b="b"/>
                <a:pathLst>
                  <a:path w="27" h="28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27" y="28"/>
                    </a:lnTo>
                    <a:lnTo>
                      <a:pt x="27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4365000" y="500400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6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4387680" y="5045400"/>
                <a:ext cx="43200" cy="4140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7" y="20"/>
                    </a:lnTo>
                    <a:lnTo>
                      <a:pt x="20" y="2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4442400" y="510804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4462920" y="5139000"/>
                <a:ext cx="33840" cy="42480"/>
              </a:xfrm>
              <a:custGeom>
                <a:avLst/>
                <a:gdLst/>
                <a:ahLst/>
                <a:rect l="l" t="t" r="r" b="b"/>
                <a:pathLst>
                  <a:path w="21" h="28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3278520" y="5004000"/>
                <a:ext cx="54360" cy="19800"/>
              </a:xfrm>
              <a:custGeom>
                <a:avLst/>
                <a:gdLst/>
                <a:ahLst/>
                <a:rect l="l" t="t" r="r" b="b"/>
                <a:pathLst>
                  <a:path w="34" h="13">
                    <a:moveTo>
                      <a:pt x="7" y="6"/>
                    </a:moveTo>
                    <a:lnTo>
                      <a:pt x="7" y="6"/>
                    </a:lnTo>
                    <a:lnTo>
                      <a:pt x="7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3355200" y="49932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398760" y="4971600"/>
                <a:ext cx="65520" cy="21240"/>
              </a:xfrm>
              <a:custGeom>
                <a:avLst/>
                <a:gdLst/>
                <a:ahLst/>
                <a:rect l="l" t="t" r="r" b="b"/>
                <a:pathLst>
                  <a:path w="41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41" y="7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3475800" y="4960800"/>
                <a:ext cx="33840" cy="10440"/>
              </a:xfrm>
              <a:custGeom>
                <a:avLst/>
                <a:gdLst/>
                <a:ahLst/>
                <a:rect l="l" t="t" r="r" b="b"/>
                <a:pathLst>
                  <a:path w="21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21" y="7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3520800" y="4941000"/>
                <a:ext cx="54360" cy="19800"/>
              </a:xfrm>
              <a:custGeom>
                <a:avLst/>
                <a:gdLst/>
                <a:ahLst/>
                <a:rect l="l" t="t" r="r" b="b"/>
                <a:pathLst>
                  <a:path w="34" h="13">
                    <a:moveTo>
                      <a:pt x="6" y="6"/>
                    </a:move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6" y="13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3596400" y="49302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3641040" y="4908600"/>
                <a:ext cx="54360" cy="2124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718080" y="4897800"/>
                <a:ext cx="31680" cy="10440"/>
              </a:xfrm>
              <a:custGeom>
                <a:avLst/>
                <a:gdLst/>
                <a:ahLst/>
                <a:rect l="l" t="t" r="r" b="b"/>
                <a:pathLst>
                  <a:path w="20" h="7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3761640" y="4876560"/>
                <a:ext cx="54360" cy="2124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7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3838680" y="4856400"/>
                <a:ext cx="31680" cy="20160"/>
              </a:xfrm>
              <a:custGeom>
                <a:avLst/>
                <a:gdLst/>
                <a:ahLst/>
                <a:rect l="l" t="t" r="r" b="b"/>
                <a:pathLst>
                  <a:path w="20" h="13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3881880" y="4845600"/>
                <a:ext cx="54360" cy="2124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7" y="7"/>
                    </a:move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3959280" y="4824360"/>
                <a:ext cx="2196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7" y="7"/>
                    </a:move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4013280" y="4804200"/>
                <a:ext cx="54360" cy="30600"/>
              </a:xfrm>
              <a:custGeom>
                <a:avLst/>
                <a:gdLst/>
                <a:ahLst/>
                <a:rect l="l" t="t" r="r" b="b"/>
                <a:pathLst>
                  <a:path w="34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28" y="13"/>
                    </a:lnTo>
                    <a:lnTo>
                      <a:pt x="28" y="6"/>
                    </a:lnTo>
                    <a:lnTo>
                      <a:pt x="28" y="6"/>
                    </a:lnTo>
                    <a:lnTo>
                      <a:pt x="34" y="6"/>
                    </a:lnTo>
                    <a:lnTo>
                      <a:pt x="28" y="6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4079160" y="4793400"/>
                <a:ext cx="22320" cy="2016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7" y="7"/>
                    </a:move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4124520" y="4772160"/>
                <a:ext cx="54360" cy="2124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6" y="7"/>
                    </a:moveTo>
                    <a:lnTo>
                      <a:pt x="6" y="14"/>
                    </a:lnTo>
                    <a:lnTo>
                      <a:pt x="6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4199760" y="47613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4244760" y="4740840"/>
                <a:ext cx="54360" cy="20160"/>
              </a:xfrm>
              <a:custGeom>
                <a:avLst/>
                <a:gdLst/>
                <a:ahLst/>
                <a:rect l="l" t="t" r="r" b="b"/>
                <a:pathLst>
                  <a:path w="34" h="13">
                    <a:moveTo>
                      <a:pt x="7" y="6"/>
                    </a:moveTo>
                    <a:lnTo>
                      <a:pt x="7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4321800" y="473040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6" y="0"/>
                    </a:moveTo>
                    <a:lnTo>
                      <a:pt x="6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4365000" y="4708800"/>
                <a:ext cx="54360" cy="2124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4442400" y="469800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4485600" y="4678200"/>
                <a:ext cx="54360" cy="19800"/>
              </a:xfrm>
              <a:custGeom>
                <a:avLst/>
                <a:gdLst/>
                <a:ahLst/>
                <a:rect l="l" t="t" r="r" b="b"/>
                <a:pathLst>
                  <a:path w="34" h="13">
                    <a:moveTo>
                      <a:pt x="7" y="6"/>
                    </a:moveTo>
                    <a:lnTo>
                      <a:pt x="7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4562640" y="466740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4606200" y="4645800"/>
                <a:ext cx="55800" cy="21240"/>
              </a:xfrm>
              <a:custGeom>
                <a:avLst/>
                <a:gdLst/>
                <a:ahLst/>
                <a:rect l="l" t="t" r="r" b="b"/>
                <a:pathLst>
                  <a:path w="35" h="14">
                    <a:moveTo>
                      <a:pt x="7" y="7"/>
                    </a:move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4682880" y="46350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4727880" y="4615200"/>
                <a:ext cx="65880" cy="19800"/>
              </a:xfrm>
              <a:custGeom>
                <a:avLst/>
                <a:gdLst/>
                <a:ahLst/>
                <a:rect l="l" t="t" r="r" b="b"/>
                <a:pathLst>
                  <a:path w="41" h="13">
                    <a:moveTo>
                      <a:pt x="6" y="6"/>
                    </a:moveTo>
                    <a:lnTo>
                      <a:pt x="6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34" y="6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41" y="0"/>
                    </a:lnTo>
                    <a:lnTo>
                      <a:pt x="41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4803480" y="459360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7" y="7"/>
                    </a:move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4848480" y="4572000"/>
                <a:ext cx="54000" cy="32040"/>
              </a:xfrm>
              <a:custGeom>
                <a:avLst/>
                <a:gdLst/>
                <a:ahLst/>
                <a:rect l="l" t="t" r="r" b="b"/>
                <a:pathLst>
                  <a:path w="34" h="21">
                    <a:moveTo>
                      <a:pt x="7" y="14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34" y="14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4925520" y="4561560"/>
                <a:ext cx="20880" cy="2124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6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14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4968720" y="4541400"/>
                <a:ext cx="54360" cy="20160"/>
              </a:xfrm>
              <a:custGeom>
                <a:avLst/>
                <a:gdLst/>
                <a:ahLst/>
                <a:rect l="l" t="t" r="r" b="b"/>
                <a:pathLst>
                  <a:path w="34" h="13">
                    <a:moveTo>
                      <a:pt x="0" y="7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5045760" y="453060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5089320" y="4509360"/>
                <a:ext cx="54360" cy="2124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7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5166360" y="449856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4233600" y="4467960"/>
                <a:ext cx="65520" cy="10440"/>
              </a:xfrm>
              <a:custGeom>
                <a:avLst/>
                <a:gdLst/>
                <a:ahLst/>
                <a:rect l="l" t="t" r="r" b="b"/>
                <a:pathLst>
                  <a:path w="41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41" y="7"/>
                    </a:lnTo>
                    <a:lnTo>
                      <a:pt x="41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4321800" y="446796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4365000" y="446796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4442400" y="446796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4485600" y="4467960"/>
                <a:ext cx="65880" cy="10440"/>
              </a:xfrm>
              <a:custGeom>
                <a:avLst/>
                <a:gdLst/>
                <a:ahLst/>
                <a:rect l="l" t="t" r="r" b="b"/>
                <a:pathLst>
                  <a:path w="41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41" y="7"/>
                    </a:lnTo>
                    <a:lnTo>
                      <a:pt x="41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4573800" y="4467960"/>
                <a:ext cx="2088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4617360" y="4467960"/>
                <a:ext cx="5400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8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4694040" y="44679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4737600" y="4467960"/>
                <a:ext cx="65880" cy="10440"/>
              </a:xfrm>
              <a:custGeom>
                <a:avLst/>
                <a:gdLst/>
                <a:ahLst/>
                <a:rect l="l" t="t" r="r" b="b"/>
                <a:pathLst>
                  <a:path w="41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41" y="7"/>
                    </a:lnTo>
                    <a:lnTo>
                      <a:pt x="41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4825800" y="44679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4869360" y="4467960"/>
                <a:ext cx="55800" cy="10440"/>
              </a:xfrm>
              <a:custGeom>
                <a:avLst/>
                <a:gdLst/>
                <a:ahLst/>
                <a:rect l="l" t="t" r="r" b="b"/>
                <a:pathLst>
                  <a:path w="35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4946400" y="446796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4991400" y="446796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5066640" y="44679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5111640" y="4467960"/>
                <a:ext cx="65880" cy="10440"/>
              </a:xfrm>
              <a:custGeom>
                <a:avLst/>
                <a:gdLst/>
                <a:ahLst/>
                <a:rect l="l" t="t" r="r" b="b"/>
                <a:pathLst>
                  <a:path w="41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41" y="7"/>
                    </a:lnTo>
                    <a:lnTo>
                      <a:pt x="41" y="7"/>
                    </a:lnTo>
                    <a:lnTo>
                      <a:pt x="41" y="0"/>
                    </a:lnTo>
                    <a:lnTo>
                      <a:pt x="41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3827520" y="3921120"/>
                <a:ext cx="11160" cy="62640"/>
              </a:xfrm>
              <a:custGeom>
                <a:avLst/>
                <a:gdLst/>
                <a:ahLst/>
                <a:rect l="l" t="t" r="r" b="b"/>
                <a:pathLst>
                  <a:path w="7" h="41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7" y="35"/>
                    </a:lnTo>
                    <a:lnTo>
                      <a:pt x="7" y="41"/>
                    </a:lnTo>
                    <a:lnTo>
                      <a:pt x="7" y="41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827520" y="400536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3827520" y="4047120"/>
                <a:ext cx="11160" cy="53640"/>
              </a:xfrm>
              <a:custGeom>
                <a:avLst/>
                <a:gdLst/>
                <a:ahLst/>
                <a:rect l="l" t="t" r="r" b="b"/>
                <a:pathLst>
                  <a:path w="7" h="35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8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3827520" y="412092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3827520" y="416376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6"/>
                    </a:moveTo>
                    <a:lnTo>
                      <a:pt x="7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3827520" y="424692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827520" y="428976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3827520" y="436356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5846760" y="387972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5846760" y="395316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5846760" y="399492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5846760" y="406872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5846760" y="412092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5846760" y="419472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5846760" y="4236120"/>
                <a:ext cx="11160" cy="53280"/>
              </a:xfrm>
              <a:custGeom>
                <a:avLst/>
                <a:gdLst/>
                <a:ahLst/>
                <a:rect l="l" t="t" r="r" b="b"/>
                <a:pathLst>
                  <a:path w="7" h="35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8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5846760" y="430956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5846760" y="435276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7" y="34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6021720" y="4478400"/>
                <a:ext cx="65880" cy="10440"/>
              </a:xfrm>
              <a:custGeom>
                <a:avLst/>
                <a:gdLst/>
                <a:ahLst/>
                <a:rect l="l" t="t" r="r" b="b"/>
                <a:pathLst>
                  <a:path w="41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41" y="7"/>
                    </a:lnTo>
                    <a:lnTo>
                      <a:pt x="41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6110280" y="447840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6153480" y="447840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8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6230520" y="44784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6273720" y="4478400"/>
                <a:ext cx="65880" cy="10440"/>
              </a:xfrm>
              <a:custGeom>
                <a:avLst/>
                <a:gdLst/>
                <a:ahLst/>
                <a:rect l="l" t="t" r="r" b="b"/>
                <a:pathLst>
                  <a:path w="41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41" y="7"/>
                    </a:lnTo>
                    <a:lnTo>
                      <a:pt x="41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6362280" y="44784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6405480" y="4478400"/>
                <a:ext cx="55800" cy="10440"/>
              </a:xfrm>
              <a:custGeom>
                <a:avLst/>
                <a:gdLst/>
                <a:ahLst/>
                <a:rect l="l" t="t" r="r" b="b"/>
                <a:pathLst>
                  <a:path w="35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2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5374800" y="4582800"/>
                <a:ext cx="43200" cy="4140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27" y="7"/>
                    </a:move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0" y="7"/>
                    </a:lnTo>
                    <a:lnTo>
                      <a:pt x="20" y="0"/>
                    </a:lnTo>
                    <a:lnTo>
                      <a:pt x="20" y="7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2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5331600" y="4635000"/>
                <a:ext cx="20520" cy="2124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13" y="7"/>
                    </a:move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13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5275440" y="4667400"/>
                <a:ext cx="44640" cy="30600"/>
              </a:xfrm>
              <a:custGeom>
                <a:avLst/>
                <a:gdLst/>
                <a:ahLst/>
                <a:rect l="l" t="t" r="r" b="b"/>
                <a:pathLst>
                  <a:path w="28" h="20">
                    <a:moveTo>
                      <a:pt x="28" y="7"/>
                    </a:moveTo>
                    <a:lnTo>
                      <a:pt x="28" y="7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7" y="20"/>
                    </a:lnTo>
                    <a:lnTo>
                      <a:pt x="28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5243040" y="470880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5177520" y="4740840"/>
                <a:ext cx="43200" cy="4176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27" y="6"/>
                    </a:moveTo>
                    <a:lnTo>
                      <a:pt x="27" y="6"/>
                    </a:lnTo>
                    <a:lnTo>
                      <a:pt x="27" y="6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2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5143680" y="4793400"/>
                <a:ext cx="22320" cy="2016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7" y="7"/>
                    </a:move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5077800" y="4813560"/>
                <a:ext cx="54360" cy="42480"/>
              </a:xfrm>
              <a:custGeom>
                <a:avLst/>
                <a:gdLst/>
                <a:ahLst/>
                <a:rect l="l" t="t" r="r" b="b"/>
                <a:pathLst>
                  <a:path w="34" h="28">
                    <a:moveTo>
                      <a:pt x="28" y="7"/>
                    </a:move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7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28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5045760" y="4867200"/>
                <a:ext cx="20520" cy="19800"/>
              </a:xfrm>
              <a:custGeom>
                <a:avLst/>
                <a:gdLst/>
                <a:ahLst/>
                <a:rect l="l" t="t" r="r" b="b"/>
                <a:pathLst>
                  <a:path w="13" h="13">
                    <a:moveTo>
                      <a:pt x="13" y="6"/>
                    </a:move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13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4991400" y="4897800"/>
                <a:ext cx="43200" cy="42840"/>
              </a:xfrm>
              <a:custGeom>
                <a:avLst/>
                <a:gdLst/>
                <a:ahLst/>
                <a:rect l="l" t="t" r="r" b="b"/>
                <a:pathLst>
                  <a:path w="27" h="28">
                    <a:moveTo>
                      <a:pt x="20" y="7"/>
                    </a:move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2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4946400" y="495000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14" y="7"/>
                    </a:move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4891680" y="4971600"/>
                <a:ext cx="43200" cy="4140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27" y="7"/>
                    </a:move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1" y="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2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4859280" y="5023800"/>
                <a:ext cx="20880" cy="2124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6" y="7"/>
                    </a:move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6" y="7"/>
                    </a:lnTo>
                    <a:lnTo>
                      <a:pt x="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4793760" y="5045400"/>
                <a:ext cx="43200" cy="4140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27" y="7"/>
                    </a:move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7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6" y="27"/>
                    </a:lnTo>
                    <a:lnTo>
                      <a:pt x="6" y="27"/>
                    </a:lnTo>
                    <a:lnTo>
                      <a:pt x="6" y="27"/>
                    </a:lnTo>
                    <a:lnTo>
                      <a:pt x="2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4759920" y="509760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14" y="7"/>
                    </a:move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14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4705560" y="5129640"/>
                <a:ext cx="43200" cy="4140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20" y="6"/>
                    </a:moveTo>
                    <a:lnTo>
                      <a:pt x="27" y="6"/>
                    </a:lnTo>
                    <a:lnTo>
                      <a:pt x="27" y="6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2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4671720" y="518184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3234960" y="4813560"/>
                <a:ext cx="30636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3234960" y="4813560"/>
                <a:ext cx="28548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3234960" y="4824360"/>
                <a:ext cx="34020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3234960" y="4834800"/>
                <a:ext cx="3402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3234960" y="4834800"/>
                <a:ext cx="25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A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146760" y="4845600"/>
                <a:ext cx="88200" cy="522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3718080" y="4941000"/>
                <a:ext cx="3063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3718080" y="4941000"/>
                <a:ext cx="28404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3718080" y="4950000"/>
                <a:ext cx="3402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3718080" y="4950000"/>
                <a:ext cx="34020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3718080" y="4950000"/>
                <a:ext cx="25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A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3630240" y="4887000"/>
                <a:ext cx="87840" cy="630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809640" y="1066680"/>
                <a:ext cx="1116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809640" y="1066680"/>
                <a:ext cx="1116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7646760" y="1066680"/>
                <a:ext cx="1116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7646760" y="1066680"/>
                <a:ext cx="1116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1401840" y="3344040"/>
                <a:ext cx="185760" cy="188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1456200" y="3365280"/>
                <a:ext cx="15372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1456200" y="3376080"/>
                <a:ext cx="1425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1456200" y="3376080"/>
                <a:ext cx="9936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1456200" y="3376080"/>
                <a:ext cx="16524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1456200" y="3386880"/>
                <a:ext cx="1652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1456560" y="338688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1873440" y="3344040"/>
                <a:ext cx="374040" cy="188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1973160" y="3365280"/>
                <a:ext cx="25164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1973160" y="3376080"/>
                <a:ext cx="2178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1973160" y="3376080"/>
                <a:ext cx="21780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1973160" y="3376080"/>
                <a:ext cx="28368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1973160" y="3386880"/>
                <a:ext cx="2743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1973160" y="3386880"/>
                <a:ext cx="197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U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1127160" y="3165480"/>
                <a:ext cx="29700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1181880" y="3187080"/>
                <a:ext cx="24228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1181880" y="3197880"/>
                <a:ext cx="2196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1181880" y="3197880"/>
                <a:ext cx="18756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1181880" y="3208680"/>
                <a:ext cx="2422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1181880" y="3217680"/>
                <a:ext cx="24228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1181520" y="3217680"/>
                <a:ext cx="162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1587960" y="3165480"/>
                <a:ext cx="39492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1676160" y="3187080"/>
                <a:ext cx="28548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1676160" y="3197880"/>
                <a:ext cx="2516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1676160" y="3197880"/>
                <a:ext cx="20844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1676160" y="3208680"/>
                <a:ext cx="2631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1676160" y="3217680"/>
                <a:ext cx="2516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1676520" y="3217680"/>
                <a:ext cx="183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2148120" y="3039480"/>
                <a:ext cx="483120" cy="325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2202480" y="3187080"/>
                <a:ext cx="43992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2202480" y="3197880"/>
                <a:ext cx="439920" cy="15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2279880" y="3197880"/>
                <a:ext cx="23112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2236680" y="3039480"/>
                <a:ext cx="4269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2236680" y="3050280"/>
                <a:ext cx="32904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2235960" y="3050280"/>
                <a:ext cx="2613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BSS/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2236680" y="3187080"/>
                <a:ext cx="47160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2236680" y="3187080"/>
                <a:ext cx="4060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GERA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1401840" y="3250080"/>
                <a:ext cx="185760" cy="21240"/>
              </a:xfrm>
              <a:custGeom>
                <a:avLst/>
                <a:gdLst/>
                <a:ahLst/>
                <a:rect l="l" t="t" r="r" b="b"/>
                <a:pathLst>
                  <a:path w="116" h="14">
                    <a:moveTo>
                      <a:pt x="0" y="0"/>
                    </a:moveTo>
                    <a:lnTo>
                      <a:pt x="0" y="14"/>
                    </a:lnTo>
                    <a:lnTo>
                      <a:pt x="116" y="14"/>
                    </a:lnTo>
                    <a:lnTo>
                      <a:pt x="116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1962000" y="3250080"/>
                <a:ext cx="185760" cy="21240"/>
              </a:xfrm>
              <a:custGeom>
                <a:avLst/>
                <a:gdLst/>
                <a:ahLst/>
                <a:rect l="l" t="t" r="r" b="b"/>
                <a:pathLst>
                  <a:path w="116" h="14">
                    <a:moveTo>
                      <a:pt x="0" y="0"/>
                    </a:moveTo>
                    <a:lnTo>
                      <a:pt x="0" y="14"/>
                    </a:lnTo>
                    <a:lnTo>
                      <a:pt x="116" y="14"/>
                    </a:lnTo>
                    <a:lnTo>
                      <a:pt x="116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1489680" y="3165480"/>
                <a:ext cx="11160" cy="188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2048760" y="3165480"/>
                <a:ext cx="11160" cy="188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 flipH="1">
                <a:off x="2620080" y="3281040"/>
                <a:ext cx="812160" cy="10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2828880" y="3029040"/>
                <a:ext cx="18612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3003840" y="3291840"/>
                <a:ext cx="18576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3058560" y="3260520"/>
                <a:ext cx="2422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3057840" y="3260520"/>
                <a:ext cx="16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3355200" y="4404960"/>
                <a:ext cx="33840" cy="21240"/>
              </a:xfrm>
              <a:custGeom>
                <a:avLst/>
                <a:gdLst/>
                <a:ahLst/>
                <a:rect l="l" t="t" r="r" b="b"/>
                <a:pathLst>
                  <a:path w="21" h="14">
                    <a:moveTo>
                      <a:pt x="21" y="14"/>
                    </a:move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21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3332880" y="43833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3300840" y="4352760"/>
                <a:ext cx="20520" cy="3060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3" y="13"/>
                    </a:moveTo>
                    <a:lnTo>
                      <a:pt x="13" y="20"/>
                    </a:lnTo>
                    <a:lnTo>
                      <a:pt x="13" y="20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3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3267000" y="43311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234960" y="4300560"/>
                <a:ext cx="3168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13" y="20"/>
                    </a:moveTo>
                    <a:lnTo>
                      <a:pt x="13" y="20"/>
                    </a:lnTo>
                    <a:lnTo>
                      <a:pt x="13" y="20"/>
                    </a:lnTo>
                    <a:lnTo>
                      <a:pt x="20" y="20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13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3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3212640" y="42897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3169080" y="4257360"/>
                <a:ext cx="31680" cy="21240"/>
              </a:xfrm>
              <a:custGeom>
                <a:avLst/>
                <a:gdLst/>
                <a:ahLst/>
                <a:rect l="l" t="t" r="r" b="b"/>
                <a:pathLst>
                  <a:path w="20" h="14">
                    <a:moveTo>
                      <a:pt x="13" y="14"/>
                    </a:moveTo>
                    <a:lnTo>
                      <a:pt x="13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20" y="14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3146760" y="42361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3103200" y="4205160"/>
                <a:ext cx="31680" cy="21240"/>
              </a:xfrm>
              <a:custGeom>
                <a:avLst/>
                <a:gdLst/>
                <a:ahLst/>
                <a:rect l="l" t="t" r="r" b="b"/>
                <a:pathLst>
                  <a:path w="20" h="14">
                    <a:moveTo>
                      <a:pt x="13" y="14"/>
                    </a:moveTo>
                    <a:lnTo>
                      <a:pt x="13" y="14"/>
                    </a:lnTo>
                    <a:lnTo>
                      <a:pt x="13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13" y="1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3080880" y="41839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3037320" y="4153320"/>
                <a:ext cx="32040" cy="19800"/>
              </a:xfrm>
              <a:custGeom>
                <a:avLst/>
                <a:gdLst/>
                <a:ahLst/>
                <a:rect l="l" t="t" r="r" b="b"/>
                <a:pathLst>
                  <a:path w="20" h="13">
                    <a:moveTo>
                      <a:pt x="13" y="13"/>
                    </a:moveTo>
                    <a:lnTo>
                      <a:pt x="13" y="13"/>
                    </a:lnTo>
                    <a:lnTo>
                      <a:pt x="13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3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3015360" y="4131720"/>
                <a:ext cx="1080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2971800" y="4101120"/>
                <a:ext cx="3168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13" y="13"/>
                    </a:moveTo>
                    <a:lnTo>
                      <a:pt x="13" y="20"/>
                    </a:lnTo>
                    <a:lnTo>
                      <a:pt x="13" y="20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3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2949480" y="40795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2905920" y="4047120"/>
                <a:ext cx="31680" cy="3204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13" y="21"/>
                    </a:moveTo>
                    <a:lnTo>
                      <a:pt x="13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3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2883600" y="403776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2840040" y="4005360"/>
                <a:ext cx="31680" cy="21240"/>
              </a:xfrm>
              <a:custGeom>
                <a:avLst/>
                <a:gdLst/>
                <a:ahLst/>
                <a:rect l="l" t="t" r="r" b="b"/>
                <a:pathLst>
                  <a:path w="20" h="14">
                    <a:moveTo>
                      <a:pt x="13" y="14"/>
                    </a:moveTo>
                    <a:lnTo>
                      <a:pt x="13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2817360" y="39841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2774160" y="3953160"/>
                <a:ext cx="31680" cy="21240"/>
              </a:xfrm>
              <a:custGeom>
                <a:avLst/>
                <a:gdLst/>
                <a:ahLst/>
                <a:rect l="l" t="t" r="r" b="b"/>
                <a:pathLst>
                  <a:path w="20" h="14">
                    <a:moveTo>
                      <a:pt x="13" y="14"/>
                    </a:moveTo>
                    <a:lnTo>
                      <a:pt x="13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2751480" y="39319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2708280" y="3900960"/>
                <a:ext cx="32040" cy="20160"/>
              </a:xfrm>
              <a:custGeom>
                <a:avLst/>
                <a:gdLst/>
                <a:ahLst/>
                <a:rect l="l" t="t" r="r" b="b"/>
                <a:pathLst>
                  <a:path w="20" h="13">
                    <a:moveTo>
                      <a:pt x="13" y="13"/>
                    </a:moveTo>
                    <a:lnTo>
                      <a:pt x="13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3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2685960" y="38797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2642760" y="3848760"/>
                <a:ext cx="31680" cy="3096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13" y="13"/>
                    </a:moveTo>
                    <a:lnTo>
                      <a:pt x="13" y="20"/>
                    </a:lnTo>
                    <a:lnTo>
                      <a:pt x="20" y="20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3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2620080" y="382752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 flipH="1" flipV="1">
                <a:off x="2619720" y="3281040"/>
                <a:ext cx="1009800" cy="5248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3377880" y="4415760"/>
                <a:ext cx="20880" cy="3060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3" y="20"/>
                    </a:move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3366360" y="43941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3332880" y="4352760"/>
                <a:ext cx="21960" cy="30600"/>
              </a:xfrm>
              <a:custGeom>
                <a:avLst/>
                <a:gdLst/>
                <a:ahLst/>
                <a:rect l="l" t="t" r="r" b="b"/>
                <a:pathLst>
                  <a:path w="14" h="20">
                    <a:moveTo>
                      <a:pt x="7" y="20"/>
                    </a:move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3312000" y="4320360"/>
                <a:ext cx="9720" cy="21240"/>
              </a:xfrm>
              <a:custGeom>
                <a:avLst/>
                <a:gdLst/>
                <a:ahLst/>
                <a:rect l="l" t="t" r="r" b="b"/>
                <a:pathLst>
                  <a:path w="6" h="14">
                    <a:moveTo>
                      <a:pt x="6" y="14"/>
                    </a:move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3289680" y="4278960"/>
                <a:ext cx="21960" cy="30600"/>
              </a:xfrm>
              <a:custGeom>
                <a:avLst/>
                <a:gdLst/>
                <a:ahLst/>
                <a:rect l="l" t="t" r="r" b="b"/>
                <a:pathLst>
                  <a:path w="14" h="20">
                    <a:moveTo>
                      <a:pt x="7" y="20"/>
                    </a:moveTo>
                    <a:lnTo>
                      <a:pt x="7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3267000" y="42573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3246480" y="4215960"/>
                <a:ext cx="20520" cy="3096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6" y="20"/>
                    </a:moveTo>
                    <a:lnTo>
                      <a:pt x="6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3223800" y="41947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3201120" y="4153320"/>
                <a:ext cx="22320" cy="30600"/>
              </a:xfrm>
              <a:custGeom>
                <a:avLst/>
                <a:gdLst/>
                <a:ahLst/>
                <a:rect l="l" t="t" r="r" b="b"/>
                <a:pathLst>
                  <a:path w="14" h="20">
                    <a:moveTo>
                      <a:pt x="7" y="13"/>
                    </a:moveTo>
                    <a:lnTo>
                      <a:pt x="7" y="13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3180600" y="4120920"/>
                <a:ext cx="9360" cy="1044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7"/>
                    </a:move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3146760" y="4079520"/>
                <a:ext cx="33840" cy="3060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14" y="20"/>
                    </a:move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14" y="2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4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3135240" y="40579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3103200" y="4016160"/>
                <a:ext cx="20520" cy="3060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3" y="20"/>
                    </a:move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3092040" y="398412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0" y="7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3058560" y="3942360"/>
                <a:ext cx="21960" cy="32040"/>
              </a:xfrm>
              <a:custGeom>
                <a:avLst/>
                <a:gdLst/>
                <a:ahLst/>
                <a:rect l="l" t="t" r="r" b="b"/>
                <a:pathLst>
                  <a:path w="14" h="21">
                    <a:moveTo>
                      <a:pt x="14" y="21"/>
                    </a:move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4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3037320" y="3921120"/>
                <a:ext cx="2088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3015360" y="3879720"/>
                <a:ext cx="21960" cy="31680"/>
              </a:xfrm>
              <a:custGeom>
                <a:avLst/>
                <a:gdLst/>
                <a:ahLst/>
                <a:rect l="l" t="t" r="r" b="b"/>
                <a:pathLst>
                  <a:path w="14" h="21">
                    <a:moveTo>
                      <a:pt x="7" y="21"/>
                    </a:moveTo>
                    <a:lnTo>
                      <a:pt x="7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2992680" y="38581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2971800" y="3805920"/>
                <a:ext cx="20520" cy="32040"/>
              </a:xfrm>
              <a:custGeom>
                <a:avLst/>
                <a:gdLst/>
                <a:ahLst/>
                <a:rect l="l" t="t" r="r" b="b"/>
                <a:pathLst>
                  <a:path w="13" h="21">
                    <a:moveTo>
                      <a:pt x="7" y="21"/>
                    </a:moveTo>
                    <a:lnTo>
                      <a:pt x="7" y="21"/>
                    </a:lnTo>
                    <a:lnTo>
                      <a:pt x="7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2949480" y="378612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2917440" y="3742920"/>
                <a:ext cx="31680" cy="3204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13" y="21"/>
                    </a:move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3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2905920" y="372312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2872080" y="3679920"/>
                <a:ext cx="33840" cy="3204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14" y="14"/>
                    </a:move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14"/>
                    </a:lnTo>
                    <a:lnTo>
                      <a:pt x="21" y="14"/>
                    </a:lnTo>
                    <a:lnTo>
                      <a:pt x="14" y="14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2860920" y="364932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0" y="7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2828880" y="3606480"/>
                <a:ext cx="22320" cy="31680"/>
              </a:xfrm>
              <a:custGeom>
                <a:avLst/>
                <a:gdLst/>
                <a:ahLst/>
                <a:rect l="l" t="t" r="r" b="b"/>
                <a:pathLst>
                  <a:path w="14" h="21">
                    <a:moveTo>
                      <a:pt x="14" y="21"/>
                    </a:move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4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2817360" y="3586320"/>
                <a:ext cx="1116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2785320" y="3543480"/>
                <a:ext cx="20520" cy="31680"/>
              </a:xfrm>
              <a:custGeom>
                <a:avLst/>
                <a:gdLst/>
                <a:ahLst/>
                <a:rect l="l" t="t" r="r" b="b"/>
                <a:pathLst>
                  <a:path w="13" h="21">
                    <a:moveTo>
                      <a:pt x="6" y="21"/>
                    </a:moveTo>
                    <a:lnTo>
                      <a:pt x="6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1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2763000" y="3523680"/>
                <a:ext cx="22320" cy="900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7" y="6"/>
                    </a:move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2740680" y="3469680"/>
                <a:ext cx="21960" cy="32040"/>
              </a:xfrm>
              <a:custGeom>
                <a:avLst/>
                <a:gdLst/>
                <a:ahLst/>
                <a:rect l="l" t="t" r="r" b="b"/>
                <a:pathLst>
                  <a:path w="14" h="21">
                    <a:moveTo>
                      <a:pt x="7" y="21"/>
                    </a:moveTo>
                    <a:lnTo>
                      <a:pt x="7" y="21"/>
                    </a:lnTo>
                    <a:lnTo>
                      <a:pt x="7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2718000" y="344988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2697480" y="3406680"/>
                <a:ext cx="20520" cy="32040"/>
              </a:xfrm>
              <a:custGeom>
                <a:avLst/>
                <a:gdLst/>
                <a:ahLst/>
                <a:rect l="l" t="t" r="r" b="b"/>
                <a:pathLst>
                  <a:path w="13" h="21">
                    <a:moveTo>
                      <a:pt x="7" y="21"/>
                    </a:move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1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2674800" y="338688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2642760" y="334404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13" y="14"/>
                    </a:move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13" y="14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2631600" y="331308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0" y="7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2608920" y="329184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2817360" y="3417480"/>
                <a:ext cx="9972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2817360" y="3428280"/>
                <a:ext cx="1540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2817360" y="3439080"/>
                <a:ext cx="1540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2817000" y="343908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2917440" y="3406680"/>
                <a:ext cx="97920" cy="95400"/>
              </a:xfrm>
              <a:custGeom>
                <a:avLst/>
                <a:gdLst/>
                <a:ahLst/>
                <a:rect l="l" t="t" r="r" b="b"/>
                <a:pathLst>
                  <a:path w="61" h="62">
                    <a:moveTo>
                      <a:pt x="0" y="62"/>
                    </a:moveTo>
                    <a:lnTo>
                      <a:pt x="0" y="62"/>
                    </a:lnTo>
                    <a:lnTo>
                      <a:pt x="61" y="7"/>
                    </a:lnTo>
                    <a:lnTo>
                      <a:pt x="54" y="0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2708280" y="3449880"/>
                <a:ext cx="97920" cy="104400"/>
              </a:xfrm>
              <a:custGeom>
                <a:avLst/>
                <a:gdLst/>
                <a:ahLst/>
                <a:rect l="l" t="t" r="r" b="b"/>
                <a:pathLst>
                  <a:path w="61" h="68">
                    <a:moveTo>
                      <a:pt x="0" y="61"/>
                    </a:moveTo>
                    <a:lnTo>
                      <a:pt x="6" y="68"/>
                    </a:lnTo>
                    <a:lnTo>
                      <a:pt x="61" y="7"/>
                    </a:lnTo>
                    <a:lnTo>
                      <a:pt x="54" y="0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2652120" y="3228480"/>
                <a:ext cx="780120" cy="10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3169080" y="3271320"/>
                <a:ext cx="11160" cy="414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2785320" y="3197880"/>
                <a:ext cx="1440" cy="522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2740680" y="3029040"/>
                <a:ext cx="11988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2740680" y="3039480"/>
                <a:ext cx="1764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2739960" y="303948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6" name=""/>
            <p:cNvSpPr/>
            <p:nvPr/>
          </p:nvSpPr>
          <p:spPr>
            <a:xfrm>
              <a:off x="2638440" y="3581280"/>
              <a:ext cx="4952880" cy="12956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3095640" y="3124080"/>
              <a:ext cx="2514600" cy="4572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4162320" y="2133720"/>
              <a:ext cx="3657600" cy="11430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200160" y="4572000"/>
              <a:ext cx="1996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ircuit-Switch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oma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 flipV="1">
              <a:off x="1876320" y="4571640"/>
              <a:ext cx="7621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200160" y="2133720"/>
              <a:ext cx="1844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acket Doma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1876320" y="2590920"/>
              <a:ext cx="137160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7443000" y="3200400"/>
              <a:ext cx="1285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Multi-Medi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oma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 flipH="1" flipV="1">
              <a:off x="7819560" y="297144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"/>
          <p:cNvSpPr/>
          <p:nvPr/>
        </p:nvSpPr>
        <p:spPr>
          <a:xfrm>
            <a:off x="3047400" y="409680"/>
            <a:ext cx="3050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 - Summ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42" name=""/>
          <p:cNvGraphicFramePr/>
          <p:nvPr/>
        </p:nvGraphicFramePr>
        <p:xfrm>
          <a:off x="4876920" y="4343400"/>
          <a:ext cx="3581280" cy="1523880"/>
        </p:xfrm>
        <a:graphic>
          <a:graphicData uri="http://schemas.openxmlformats.org/drawingml/2006/table">
            <a:tbl>
              <a:tblPr/>
              <a:tblGrid>
                <a:gridCol w="685800"/>
                <a:gridCol w="1676520"/>
                <a:gridCol w="1218960"/>
              </a:tblGrid>
              <a:tr h="528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nt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-3 and HI-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-2 and HI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SC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SIP Signal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GS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Session content under control of CSCF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3" name=""/>
          <p:cNvSpPr/>
          <p:nvPr/>
        </p:nvSpPr>
        <p:spPr>
          <a:xfrm>
            <a:off x="609480" y="2590920"/>
            <a:ext cx="0" cy="38088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914400" y="3048120"/>
            <a:ext cx="533520" cy="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 flipV="1">
            <a:off x="1676520" y="2361960"/>
            <a:ext cx="457200" cy="533160"/>
          </a:xfrm>
          <a:prstGeom prst="line">
            <a:avLst/>
          </a:prstGeom>
          <a:ln cap="rnd" w="2844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2895480" y="2362320"/>
            <a:ext cx="990720" cy="0"/>
          </a:xfrm>
          <a:prstGeom prst="line">
            <a:avLst/>
          </a:prstGeom>
          <a:ln cap="rnd" w="2844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762120" y="25909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914400" y="312408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2209680" y="3124080"/>
            <a:ext cx="9144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1447920" y="2895480"/>
            <a:ext cx="7617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SGS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3124080" y="289548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GGS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2133720" y="2209680"/>
            <a:ext cx="7617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CS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457200" y="228600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457200" y="289548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1067400" y="2743200"/>
            <a:ext cx="32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3841920" y="1981080"/>
            <a:ext cx="1460160" cy="808200"/>
          </a:xfrm>
          <a:custGeom>
            <a:avLst/>
            <a:gdLst/>
            <a:ahLst/>
            <a:rect l="l" t="t" r="r" b="b"/>
            <a:pathLst>
              <a:path w="920" h="509">
                <a:moveTo>
                  <a:pt x="290" y="74"/>
                </a:moveTo>
                <a:lnTo>
                  <a:pt x="310" y="68"/>
                </a:lnTo>
                <a:lnTo>
                  <a:pt x="329" y="62"/>
                </a:lnTo>
                <a:lnTo>
                  <a:pt x="347" y="57"/>
                </a:lnTo>
                <a:lnTo>
                  <a:pt x="364" y="52"/>
                </a:lnTo>
                <a:lnTo>
                  <a:pt x="379" y="47"/>
                </a:lnTo>
                <a:lnTo>
                  <a:pt x="394" y="42"/>
                </a:lnTo>
                <a:lnTo>
                  <a:pt x="420" y="34"/>
                </a:lnTo>
                <a:lnTo>
                  <a:pt x="444" y="26"/>
                </a:lnTo>
                <a:lnTo>
                  <a:pt x="465" y="19"/>
                </a:lnTo>
                <a:lnTo>
                  <a:pt x="485" y="14"/>
                </a:lnTo>
                <a:lnTo>
                  <a:pt x="504" y="9"/>
                </a:lnTo>
                <a:lnTo>
                  <a:pt x="523" y="6"/>
                </a:lnTo>
                <a:lnTo>
                  <a:pt x="542" y="3"/>
                </a:lnTo>
                <a:lnTo>
                  <a:pt x="562" y="1"/>
                </a:lnTo>
                <a:lnTo>
                  <a:pt x="584" y="0"/>
                </a:lnTo>
                <a:lnTo>
                  <a:pt x="608" y="0"/>
                </a:lnTo>
                <a:lnTo>
                  <a:pt x="635" y="1"/>
                </a:lnTo>
                <a:lnTo>
                  <a:pt x="650" y="2"/>
                </a:lnTo>
                <a:lnTo>
                  <a:pt x="666" y="3"/>
                </a:lnTo>
                <a:lnTo>
                  <a:pt x="683" y="5"/>
                </a:lnTo>
                <a:lnTo>
                  <a:pt x="701" y="6"/>
                </a:lnTo>
                <a:lnTo>
                  <a:pt x="708" y="17"/>
                </a:lnTo>
                <a:lnTo>
                  <a:pt x="713" y="26"/>
                </a:lnTo>
                <a:lnTo>
                  <a:pt x="718" y="34"/>
                </a:lnTo>
                <a:lnTo>
                  <a:pt x="723" y="41"/>
                </a:lnTo>
                <a:lnTo>
                  <a:pt x="726" y="47"/>
                </a:lnTo>
                <a:lnTo>
                  <a:pt x="729" y="52"/>
                </a:lnTo>
                <a:lnTo>
                  <a:pt x="733" y="59"/>
                </a:lnTo>
                <a:lnTo>
                  <a:pt x="735" y="64"/>
                </a:lnTo>
                <a:lnTo>
                  <a:pt x="735" y="68"/>
                </a:lnTo>
                <a:lnTo>
                  <a:pt x="734" y="71"/>
                </a:lnTo>
                <a:lnTo>
                  <a:pt x="732" y="76"/>
                </a:lnTo>
                <a:lnTo>
                  <a:pt x="731" y="83"/>
                </a:lnTo>
                <a:lnTo>
                  <a:pt x="730" y="87"/>
                </a:lnTo>
                <a:lnTo>
                  <a:pt x="729" y="92"/>
                </a:lnTo>
                <a:lnTo>
                  <a:pt x="728" y="98"/>
                </a:lnTo>
                <a:lnTo>
                  <a:pt x="728" y="105"/>
                </a:lnTo>
                <a:lnTo>
                  <a:pt x="727" y="114"/>
                </a:lnTo>
                <a:lnTo>
                  <a:pt x="727" y="124"/>
                </a:lnTo>
                <a:lnTo>
                  <a:pt x="728" y="135"/>
                </a:lnTo>
                <a:lnTo>
                  <a:pt x="729" y="148"/>
                </a:lnTo>
                <a:lnTo>
                  <a:pt x="730" y="163"/>
                </a:lnTo>
                <a:lnTo>
                  <a:pt x="732" y="180"/>
                </a:lnTo>
                <a:lnTo>
                  <a:pt x="734" y="199"/>
                </a:lnTo>
                <a:lnTo>
                  <a:pt x="737" y="220"/>
                </a:lnTo>
                <a:lnTo>
                  <a:pt x="741" y="243"/>
                </a:lnTo>
                <a:lnTo>
                  <a:pt x="745" y="269"/>
                </a:lnTo>
                <a:lnTo>
                  <a:pt x="748" y="275"/>
                </a:lnTo>
                <a:lnTo>
                  <a:pt x="753" y="281"/>
                </a:lnTo>
                <a:lnTo>
                  <a:pt x="760" y="288"/>
                </a:lnTo>
                <a:lnTo>
                  <a:pt x="770" y="295"/>
                </a:lnTo>
                <a:lnTo>
                  <a:pt x="781" y="303"/>
                </a:lnTo>
                <a:lnTo>
                  <a:pt x="793" y="310"/>
                </a:lnTo>
                <a:lnTo>
                  <a:pt x="807" y="318"/>
                </a:lnTo>
                <a:lnTo>
                  <a:pt x="821" y="326"/>
                </a:lnTo>
                <a:lnTo>
                  <a:pt x="850" y="342"/>
                </a:lnTo>
                <a:lnTo>
                  <a:pt x="878" y="357"/>
                </a:lnTo>
                <a:lnTo>
                  <a:pt x="891" y="364"/>
                </a:lnTo>
                <a:lnTo>
                  <a:pt x="902" y="371"/>
                </a:lnTo>
                <a:lnTo>
                  <a:pt x="912" y="377"/>
                </a:lnTo>
                <a:lnTo>
                  <a:pt x="920" y="383"/>
                </a:lnTo>
                <a:lnTo>
                  <a:pt x="912" y="403"/>
                </a:lnTo>
                <a:lnTo>
                  <a:pt x="900" y="421"/>
                </a:lnTo>
                <a:lnTo>
                  <a:pt x="885" y="437"/>
                </a:lnTo>
                <a:lnTo>
                  <a:pt x="868" y="450"/>
                </a:lnTo>
                <a:lnTo>
                  <a:pt x="849" y="461"/>
                </a:lnTo>
                <a:lnTo>
                  <a:pt x="827" y="471"/>
                </a:lnTo>
                <a:lnTo>
                  <a:pt x="804" y="479"/>
                </a:lnTo>
                <a:lnTo>
                  <a:pt x="780" y="485"/>
                </a:lnTo>
                <a:lnTo>
                  <a:pt x="754" y="491"/>
                </a:lnTo>
                <a:lnTo>
                  <a:pt x="728" y="495"/>
                </a:lnTo>
                <a:lnTo>
                  <a:pt x="674" y="501"/>
                </a:lnTo>
                <a:lnTo>
                  <a:pt x="620" y="505"/>
                </a:lnTo>
                <a:lnTo>
                  <a:pt x="594" y="507"/>
                </a:lnTo>
                <a:lnTo>
                  <a:pt x="569" y="509"/>
                </a:lnTo>
                <a:lnTo>
                  <a:pt x="510" y="507"/>
                </a:lnTo>
                <a:lnTo>
                  <a:pt x="451" y="505"/>
                </a:lnTo>
                <a:lnTo>
                  <a:pt x="392" y="502"/>
                </a:lnTo>
                <a:lnTo>
                  <a:pt x="333" y="498"/>
                </a:lnTo>
                <a:lnTo>
                  <a:pt x="322" y="497"/>
                </a:lnTo>
                <a:lnTo>
                  <a:pt x="313" y="494"/>
                </a:lnTo>
                <a:lnTo>
                  <a:pt x="304" y="492"/>
                </a:lnTo>
                <a:lnTo>
                  <a:pt x="297" y="489"/>
                </a:lnTo>
                <a:lnTo>
                  <a:pt x="284" y="481"/>
                </a:lnTo>
                <a:lnTo>
                  <a:pt x="273" y="471"/>
                </a:lnTo>
                <a:lnTo>
                  <a:pt x="264" y="461"/>
                </a:lnTo>
                <a:lnTo>
                  <a:pt x="254" y="450"/>
                </a:lnTo>
                <a:lnTo>
                  <a:pt x="244" y="439"/>
                </a:lnTo>
                <a:lnTo>
                  <a:pt x="232" y="428"/>
                </a:lnTo>
                <a:lnTo>
                  <a:pt x="221" y="422"/>
                </a:lnTo>
                <a:lnTo>
                  <a:pt x="210" y="417"/>
                </a:lnTo>
                <a:lnTo>
                  <a:pt x="198" y="412"/>
                </a:lnTo>
                <a:lnTo>
                  <a:pt x="187" y="406"/>
                </a:lnTo>
                <a:lnTo>
                  <a:pt x="172" y="395"/>
                </a:lnTo>
                <a:lnTo>
                  <a:pt x="158" y="383"/>
                </a:lnTo>
                <a:lnTo>
                  <a:pt x="154" y="370"/>
                </a:lnTo>
                <a:lnTo>
                  <a:pt x="150" y="358"/>
                </a:lnTo>
                <a:lnTo>
                  <a:pt x="146" y="347"/>
                </a:lnTo>
                <a:lnTo>
                  <a:pt x="143" y="337"/>
                </a:lnTo>
                <a:lnTo>
                  <a:pt x="136" y="320"/>
                </a:lnTo>
                <a:lnTo>
                  <a:pt x="128" y="306"/>
                </a:lnTo>
                <a:lnTo>
                  <a:pt x="123" y="300"/>
                </a:lnTo>
                <a:lnTo>
                  <a:pt x="118" y="295"/>
                </a:lnTo>
                <a:lnTo>
                  <a:pt x="111" y="290"/>
                </a:lnTo>
                <a:lnTo>
                  <a:pt x="103" y="285"/>
                </a:lnTo>
                <a:lnTo>
                  <a:pt x="94" y="281"/>
                </a:lnTo>
                <a:lnTo>
                  <a:pt x="83" y="277"/>
                </a:lnTo>
                <a:lnTo>
                  <a:pt x="70" y="273"/>
                </a:lnTo>
                <a:lnTo>
                  <a:pt x="55" y="269"/>
                </a:lnTo>
                <a:lnTo>
                  <a:pt x="38" y="247"/>
                </a:lnTo>
                <a:lnTo>
                  <a:pt x="23" y="224"/>
                </a:lnTo>
                <a:lnTo>
                  <a:pt x="11" y="202"/>
                </a:lnTo>
                <a:lnTo>
                  <a:pt x="6" y="190"/>
                </a:lnTo>
                <a:lnTo>
                  <a:pt x="3" y="178"/>
                </a:lnTo>
                <a:lnTo>
                  <a:pt x="0" y="166"/>
                </a:lnTo>
                <a:lnTo>
                  <a:pt x="0" y="154"/>
                </a:lnTo>
                <a:lnTo>
                  <a:pt x="0" y="142"/>
                </a:lnTo>
                <a:lnTo>
                  <a:pt x="2" y="129"/>
                </a:lnTo>
                <a:lnTo>
                  <a:pt x="5" y="116"/>
                </a:lnTo>
                <a:lnTo>
                  <a:pt x="11" y="102"/>
                </a:lnTo>
                <a:lnTo>
                  <a:pt x="18" y="88"/>
                </a:lnTo>
                <a:lnTo>
                  <a:pt x="27" y="74"/>
                </a:lnTo>
                <a:lnTo>
                  <a:pt x="30" y="70"/>
                </a:lnTo>
                <a:lnTo>
                  <a:pt x="35" y="67"/>
                </a:lnTo>
                <a:lnTo>
                  <a:pt x="47" y="62"/>
                </a:lnTo>
                <a:lnTo>
                  <a:pt x="61" y="58"/>
                </a:lnTo>
                <a:lnTo>
                  <a:pt x="76" y="55"/>
                </a:lnTo>
                <a:lnTo>
                  <a:pt x="90" y="53"/>
                </a:lnTo>
                <a:lnTo>
                  <a:pt x="102" y="53"/>
                </a:lnTo>
                <a:lnTo>
                  <a:pt x="107" y="52"/>
                </a:lnTo>
                <a:lnTo>
                  <a:pt x="111" y="52"/>
                </a:lnTo>
                <a:lnTo>
                  <a:pt x="113" y="52"/>
                </a:lnTo>
                <a:lnTo>
                  <a:pt x="114" y="52"/>
                </a:lnTo>
                <a:lnTo>
                  <a:pt x="150" y="54"/>
                </a:lnTo>
                <a:lnTo>
                  <a:pt x="187" y="56"/>
                </a:lnTo>
                <a:lnTo>
                  <a:pt x="224" y="59"/>
                </a:lnTo>
                <a:lnTo>
                  <a:pt x="260" y="63"/>
                </a:lnTo>
                <a:lnTo>
                  <a:pt x="271" y="67"/>
                </a:lnTo>
                <a:lnTo>
                  <a:pt x="279" y="72"/>
                </a:lnTo>
                <a:lnTo>
                  <a:pt x="284" y="77"/>
                </a:lnTo>
                <a:lnTo>
                  <a:pt x="288" y="82"/>
                </a:lnTo>
                <a:lnTo>
                  <a:pt x="290" y="85"/>
                </a:lnTo>
                <a:lnTo>
                  <a:pt x="290" y="85"/>
                </a:lnTo>
                <a:lnTo>
                  <a:pt x="290" y="84"/>
                </a:lnTo>
                <a:lnTo>
                  <a:pt x="290" y="82"/>
                </a:lnTo>
                <a:lnTo>
                  <a:pt x="290" y="79"/>
                </a:lnTo>
                <a:lnTo>
                  <a:pt x="290" y="74"/>
                </a:lnTo>
                <a:close/>
              </a:path>
            </a:pathLst>
          </a:custGeom>
          <a:noFill/>
          <a:ln w="9360">
            <a:solidFill>
              <a:srgbClr val="cc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4035600" y="1959120"/>
            <a:ext cx="10015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4189680" y="2179800"/>
            <a:ext cx="762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cc"/>
                </a:solidFill>
                <a:latin typeface="Times New Roman"/>
              </a:rPr>
              <a:t>Multimed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4164120" y="2362320"/>
            <a:ext cx="816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cc"/>
                </a:solidFill>
                <a:latin typeface="Times New Roman"/>
              </a:rPr>
              <a:t>IP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2133720" y="3352680"/>
            <a:ext cx="0" cy="152424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2819520" y="2743200"/>
            <a:ext cx="0" cy="2209680"/>
          </a:xfrm>
          <a:prstGeom prst="line">
            <a:avLst/>
          </a:prstGeom>
          <a:ln cap="rnd" w="28440">
            <a:solidFill>
              <a:srgbClr val="ff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1981080" y="304812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2666880" y="243828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2363760" y="43434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3278160" y="43434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1678320" y="3429000"/>
            <a:ext cx="41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2362320" y="3429000"/>
            <a:ext cx="4572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 flipV="1">
            <a:off x="3581280" y="2514600"/>
            <a:ext cx="533520" cy="3808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3200400" y="3352680"/>
            <a:ext cx="0" cy="160020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1905120" y="3809880"/>
            <a:ext cx="15238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Deliver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3048120" y="3048120"/>
            <a:ext cx="30456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3278520" y="3429000"/>
            <a:ext cx="41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3278520" y="2133720"/>
            <a:ext cx="37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SI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1830600" y="2590920"/>
            <a:ext cx="37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SI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1601640" y="43434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1981080" y="4800600"/>
            <a:ext cx="13716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L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3886200" y="3505320"/>
            <a:ext cx="914400" cy="533160"/>
          </a:xfrm>
          <a:prstGeom prst="wedgeRoundRectCallout">
            <a:avLst>
              <a:gd name="adj1" fmla="val -67013"/>
              <a:gd name="adj2" fmla="val -124703"/>
              <a:gd name="adj3" fmla="val 16667"/>
            </a:avLst>
          </a:prstGeom>
          <a:noFill/>
          <a:ln w="1908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cc99"/>
                </a:solidFill>
                <a:latin typeface="Times New Roman"/>
              </a:rPr>
              <a:t>Nation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cc99"/>
                </a:solidFill>
                <a:latin typeface="Times New Roman"/>
              </a:rPr>
              <a:t>Op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7095960" y="2827440"/>
            <a:ext cx="1460520" cy="807840"/>
          </a:xfrm>
          <a:custGeom>
            <a:avLst/>
            <a:gdLst/>
            <a:ahLst/>
            <a:rect l="l" t="t" r="r" b="b"/>
            <a:pathLst>
              <a:path w="920" h="509">
                <a:moveTo>
                  <a:pt x="290" y="74"/>
                </a:moveTo>
                <a:lnTo>
                  <a:pt x="310" y="68"/>
                </a:lnTo>
                <a:lnTo>
                  <a:pt x="329" y="62"/>
                </a:lnTo>
                <a:lnTo>
                  <a:pt x="347" y="57"/>
                </a:lnTo>
                <a:lnTo>
                  <a:pt x="364" y="52"/>
                </a:lnTo>
                <a:lnTo>
                  <a:pt x="379" y="47"/>
                </a:lnTo>
                <a:lnTo>
                  <a:pt x="394" y="42"/>
                </a:lnTo>
                <a:lnTo>
                  <a:pt x="420" y="34"/>
                </a:lnTo>
                <a:lnTo>
                  <a:pt x="444" y="26"/>
                </a:lnTo>
                <a:lnTo>
                  <a:pt x="465" y="19"/>
                </a:lnTo>
                <a:lnTo>
                  <a:pt x="485" y="14"/>
                </a:lnTo>
                <a:lnTo>
                  <a:pt x="504" y="9"/>
                </a:lnTo>
                <a:lnTo>
                  <a:pt x="523" y="6"/>
                </a:lnTo>
                <a:lnTo>
                  <a:pt x="542" y="3"/>
                </a:lnTo>
                <a:lnTo>
                  <a:pt x="562" y="1"/>
                </a:lnTo>
                <a:lnTo>
                  <a:pt x="584" y="0"/>
                </a:lnTo>
                <a:lnTo>
                  <a:pt x="608" y="0"/>
                </a:lnTo>
                <a:lnTo>
                  <a:pt x="635" y="1"/>
                </a:lnTo>
                <a:lnTo>
                  <a:pt x="650" y="2"/>
                </a:lnTo>
                <a:lnTo>
                  <a:pt x="666" y="3"/>
                </a:lnTo>
                <a:lnTo>
                  <a:pt x="683" y="5"/>
                </a:lnTo>
                <a:lnTo>
                  <a:pt x="701" y="6"/>
                </a:lnTo>
                <a:lnTo>
                  <a:pt x="708" y="17"/>
                </a:lnTo>
                <a:lnTo>
                  <a:pt x="713" y="26"/>
                </a:lnTo>
                <a:lnTo>
                  <a:pt x="718" y="34"/>
                </a:lnTo>
                <a:lnTo>
                  <a:pt x="723" y="41"/>
                </a:lnTo>
                <a:lnTo>
                  <a:pt x="726" y="47"/>
                </a:lnTo>
                <a:lnTo>
                  <a:pt x="729" y="52"/>
                </a:lnTo>
                <a:lnTo>
                  <a:pt x="733" y="59"/>
                </a:lnTo>
                <a:lnTo>
                  <a:pt x="735" y="64"/>
                </a:lnTo>
                <a:lnTo>
                  <a:pt x="735" y="68"/>
                </a:lnTo>
                <a:lnTo>
                  <a:pt x="734" y="71"/>
                </a:lnTo>
                <a:lnTo>
                  <a:pt x="732" y="76"/>
                </a:lnTo>
                <a:lnTo>
                  <a:pt x="731" y="83"/>
                </a:lnTo>
                <a:lnTo>
                  <a:pt x="730" y="87"/>
                </a:lnTo>
                <a:lnTo>
                  <a:pt x="729" y="92"/>
                </a:lnTo>
                <a:lnTo>
                  <a:pt x="728" y="98"/>
                </a:lnTo>
                <a:lnTo>
                  <a:pt x="728" y="105"/>
                </a:lnTo>
                <a:lnTo>
                  <a:pt x="727" y="114"/>
                </a:lnTo>
                <a:lnTo>
                  <a:pt x="727" y="124"/>
                </a:lnTo>
                <a:lnTo>
                  <a:pt x="728" y="135"/>
                </a:lnTo>
                <a:lnTo>
                  <a:pt x="729" y="148"/>
                </a:lnTo>
                <a:lnTo>
                  <a:pt x="730" y="163"/>
                </a:lnTo>
                <a:lnTo>
                  <a:pt x="732" y="180"/>
                </a:lnTo>
                <a:lnTo>
                  <a:pt x="734" y="199"/>
                </a:lnTo>
                <a:lnTo>
                  <a:pt x="737" y="220"/>
                </a:lnTo>
                <a:lnTo>
                  <a:pt x="741" y="243"/>
                </a:lnTo>
                <a:lnTo>
                  <a:pt x="745" y="269"/>
                </a:lnTo>
                <a:lnTo>
                  <a:pt x="748" y="275"/>
                </a:lnTo>
                <a:lnTo>
                  <a:pt x="753" y="281"/>
                </a:lnTo>
                <a:lnTo>
                  <a:pt x="760" y="288"/>
                </a:lnTo>
                <a:lnTo>
                  <a:pt x="770" y="295"/>
                </a:lnTo>
                <a:lnTo>
                  <a:pt x="781" y="303"/>
                </a:lnTo>
                <a:lnTo>
                  <a:pt x="793" y="310"/>
                </a:lnTo>
                <a:lnTo>
                  <a:pt x="807" y="318"/>
                </a:lnTo>
                <a:lnTo>
                  <a:pt x="821" y="326"/>
                </a:lnTo>
                <a:lnTo>
                  <a:pt x="850" y="342"/>
                </a:lnTo>
                <a:lnTo>
                  <a:pt x="878" y="357"/>
                </a:lnTo>
                <a:lnTo>
                  <a:pt x="891" y="364"/>
                </a:lnTo>
                <a:lnTo>
                  <a:pt x="902" y="371"/>
                </a:lnTo>
                <a:lnTo>
                  <a:pt x="912" y="377"/>
                </a:lnTo>
                <a:lnTo>
                  <a:pt x="920" y="383"/>
                </a:lnTo>
                <a:lnTo>
                  <a:pt x="912" y="403"/>
                </a:lnTo>
                <a:lnTo>
                  <a:pt x="900" y="421"/>
                </a:lnTo>
                <a:lnTo>
                  <a:pt x="885" y="437"/>
                </a:lnTo>
                <a:lnTo>
                  <a:pt x="868" y="450"/>
                </a:lnTo>
                <a:lnTo>
                  <a:pt x="849" y="461"/>
                </a:lnTo>
                <a:lnTo>
                  <a:pt x="827" y="471"/>
                </a:lnTo>
                <a:lnTo>
                  <a:pt x="804" y="479"/>
                </a:lnTo>
                <a:lnTo>
                  <a:pt x="780" y="485"/>
                </a:lnTo>
                <a:lnTo>
                  <a:pt x="754" y="491"/>
                </a:lnTo>
                <a:lnTo>
                  <a:pt x="728" y="495"/>
                </a:lnTo>
                <a:lnTo>
                  <a:pt x="674" y="501"/>
                </a:lnTo>
                <a:lnTo>
                  <a:pt x="620" y="505"/>
                </a:lnTo>
                <a:lnTo>
                  <a:pt x="594" y="507"/>
                </a:lnTo>
                <a:lnTo>
                  <a:pt x="569" y="509"/>
                </a:lnTo>
                <a:lnTo>
                  <a:pt x="510" y="507"/>
                </a:lnTo>
                <a:lnTo>
                  <a:pt x="451" y="505"/>
                </a:lnTo>
                <a:lnTo>
                  <a:pt x="392" y="502"/>
                </a:lnTo>
                <a:lnTo>
                  <a:pt x="333" y="498"/>
                </a:lnTo>
                <a:lnTo>
                  <a:pt x="322" y="497"/>
                </a:lnTo>
                <a:lnTo>
                  <a:pt x="313" y="494"/>
                </a:lnTo>
                <a:lnTo>
                  <a:pt x="304" y="492"/>
                </a:lnTo>
                <a:lnTo>
                  <a:pt x="297" y="489"/>
                </a:lnTo>
                <a:lnTo>
                  <a:pt x="284" y="481"/>
                </a:lnTo>
                <a:lnTo>
                  <a:pt x="273" y="471"/>
                </a:lnTo>
                <a:lnTo>
                  <a:pt x="264" y="461"/>
                </a:lnTo>
                <a:lnTo>
                  <a:pt x="254" y="450"/>
                </a:lnTo>
                <a:lnTo>
                  <a:pt x="244" y="439"/>
                </a:lnTo>
                <a:lnTo>
                  <a:pt x="232" y="428"/>
                </a:lnTo>
                <a:lnTo>
                  <a:pt x="221" y="422"/>
                </a:lnTo>
                <a:lnTo>
                  <a:pt x="210" y="417"/>
                </a:lnTo>
                <a:lnTo>
                  <a:pt x="198" y="412"/>
                </a:lnTo>
                <a:lnTo>
                  <a:pt x="187" y="406"/>
                </a:lnTo>
                <a:lnTo>
                  <a:pt x="172" y="395"/>
                </a:lnTo>
                <a:lnTo>
                  <a:pt x="158" y="383"/>
                </a:lnTo>
                <a:lnTo>
                  <a:pt x="154" y="370"/>
                </a:lnTo>
                <a:lnTo>
                  <a:pt x="150" y="358"/>
                </a:lnTo>
                <a:lnTo>
                  <a:pt x="146" y="347"/>
                </a:lnTo>
                <a:lnTo>
                  <a:pt x="143" y="337"/>
                </a:lnTo>
                <a:lnTo>
                  <a:pt x="136" y="320"/>
                </a:lnTo>
                <a:lnTo>
                  <a:pt x="128" y="306"/>
                </a:lnTo>
                <a:lnTo>
                  <a:pt x="123" y="300"/>
                </a:lnTo>
                <a:lnTo>
                  <a:pt x="118" y="295"/>
                </a:lnTo>
                <a:lnTo>
                  <a:pt x="111" y="290"/>
                </a:lnTo>
                <a:lnTo>
                  <a:pt x="103" y="285"/>
                </a:lnTo>
                <a:lnTo>
                  <a:pt x="94" y="281"/>
                </a:lnTo>
                <a:lnTo>
                  <a:pt x="83" y="277"/>
                </a:lnTo>
                <a:lnTo>
                  <a:pt x="70" y="273"/>
                </a:lnTo>
                <a:lnTo>
                  <a:pt x="55" y="269"/>
                </a:lnTo>
                <a:lnTo>
                  <a:pt x="38" y="247"/>
                </a:lnTo>
                <a:lnTo>
                  <a:pt x="23" y="224"/>
                </a:lnTo>
                <a:lnTo>
                  <a:pt x="11" y="202"/>
                </a:lnTo>
                <a:lnTo>
                  <a:pt x="6" y="190"/>
                </a:lnTo>
                <a:lnTo>
                  <a:pt x="3" y="178"/>
                </a:lnTo>
                <a:lnTo>
                  <a:pt x="0" y="166"/>
                </a:lnTo>
                <a:lnTo>
                  <a:pt x="0" y="154"/>
                </a:lnTo>
                <a:lnTo>
                  <a:pt x="0" y="142"/>
                </a:lnTo>
                <a:lnTo>
                  <a:pt x="2" y="129"/>
                </a:lnTo>
                <a:lnTo>
                  <a:pt x="5" y="116"/>
                </a:lnTo>
                <a:lnTo>
                  <a:pt x="11" y="102"/>
                </a:lnTo>
                <a:lnTo>
                  <a:pt x="18" y="88"/>
                </a:lnTo>
                <a:lnTo>
                  <a:pt x="27" y="74"/>
                </a:lnTo>
                <a:lnTo>
                  <a:pt x="30" y="70"/>
                </a:lnTo>
                <a:lnTo>
                  <a:pt x="35" y="67"/>
                </a:lnTo>
                <a:lnTo>
                  <a:pt x="47" y="62"/>
                </a:lnTo>
                <a:lnTo>
                  <a:pt x="61" y="58"/>
                </a:lnTo>
                <a:lnTo>
                  <a:pt x="76" y="55"/>
                </a:lnTo>
                <a:lnTo>
                  <a:pt x="90" y="53"/>
                </a:lnTo>
                <a:lnTo>
                  <a:pt x="102" y="53"/>
                </a:lnTo>
                <a:lnTo>
                  <a:pt x="107" y="52"/>
                </a:lnTo>
                <a:lnTo>
                  <a:pt x="111" y="52"/>
                </a:lnTo>
                <a:lnTo>
                  <a:pt x="113" y="52"/>
                </a:lnTo>
                <a:lnTo>
                  <a:pt x="114" y="52"/>
                </a:lnTo>
                <a:lnTo>
                  <a:pt x="150" y="54"/>
                </a:lnTo>
                <a:lnTo>
                  <a:pt x="187" y="56"/>
                </a:lnTo>
                <a:lnTo>
                  <a:pt x="224" y="59"/>
                </a:lnTo>
                <a:lnTo>
                  <a:pt x="260" y="63"/>
                </a:lnTo>
                <a:lnTo>
                  <a:pt x="271" y="67"/>
                </a:lnTo>
                <a:lnTo>
                  <a:pt x="279" y="72"/>
                </a:lnTo>
                <a:lnTo>
                  <a:pt x="284" y="77"/>
                </a:lnTo>
                <a:lnTo>
                  <a:pt x="288" y="82"/>
                </a:lnTo>
                <a:lnTo>
                  <a:pt x="290" y="85"/>
                </a:lnTo>
                <a:lnTo>
                  <a:pt x="290" y="85"/>
                </a:lnTo>
                <a:lnTo>
                  <a:pt x="290" y="84"/>
                </a:lnTo>
                <a:lnTo>
                  <a:pt x="290" y="82"/>
                </a:lnTo>
                <a:lnTo>
                  <a:pt x="290" y="79"/>
                </a:lnTo>
                <a:lnTo>
                  <a:pt x="290" y="74"/>
                </a:lnTo>
                <a:close/>
              </a:path>
            </a:pathLst>
          </a:custGeom>
          <a:noFill/>
          <a:ln w="9360">
            <a:solidFill>
              <a:srgbClr val="cc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7311960" y="3025800"/>
            <a:ext cx="100188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>
            <a:off x="7543800" y="3048120"/>
            <a:ext cx="625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cc"/>
                </a:solidFill>
                <a:latin typeface="Times New Roman"/>
              </a:rPr>
              <a:t>PST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cc"/>
                </a:solidFill>
                <a:latin typeface="Times New Roman"/>
              </a:rPr>
              <a:t>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 flipH="1" flipV="1">
            <a:off x="7391160" y="2361960"/>
            <a:ext cx="228600" cy="533160"/>
          </a:xfrm>
          <a:prstGeom prst="line">
            <a:avLst/>
          </a:prstGeom>
          <a:ln cap="rnd" w="2844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 flipV="1">
            <a:off x="6095880" y="2362320"/>
            <a:ext cx="0" cy="457200"/>
          </a:xfrm>
          <a:prstGeom prst="line">
            <a:avLst/>
          </a:prstGeom>
          <a:ln cap="rnd" w="2844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6400800" y="2209680"/>
            <a:ext cx="685800" cy="0"/>
          </a:xfrm>
          <a:prstGeom prst="line">
            <a:avLst/>
          </a:prstGeom>
          <a:ln cap="rnd" w="2844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 flipH="1" flipV="1">
            <a:off x="6476760" y="2971440"/>
            <a:ext cx="68580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5715000" y="2819520"/>
            <a:ext cx="7621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MG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5715000" y="205740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MG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7010280" y="205740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T-SG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987480" y="1447920"/>
            <a:ext cx="314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VoIP/Sessions Directed to IP 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5715000" y="1447920"/>
            <a:ext cx="19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VoIP Directed to PST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5718960" y="3429000"/>
            <a:ext cx="136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0000"/>
                </a:solidFill>
                <a:latin typeface="Times New Roman"/>
              </a:rPr>
              <a:t>Traffic Intercep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0000"/>
                </a:solidFill>
                <a:latin typeface="Times New Roman"/>
              </a:rPr>
              <a:t>@ SGSN/GGS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 flipH="1">
            <a:off x="5562720" y="3886200"/>
            <a:ext cx="12952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"/>
          <p:cNvSpPr/>
          <p:nvPr/>
        </p:nvSpPr>
        <p:spPr>
          <a:xfrm>
            <a:off x="2163240" y="2492280"/>
            <a:ext cx="4444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3G UMTS LI Capab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93" name=""/>
          <p:cNvGraphicFramePr/>
          <p:nvPr/>
        </p:nvGraphicFramePr>
        <p:xfrm>
          <a:off x="571680" y="1295280"/>
          <a:ext cx="8001000" cy="4343400"/>
        </p:xfrm>
        <a:graphic>
          <a:graphicData uri="http://schemas.openxmlformats.org/drawingml/2006/table">
            <a:tbl>
              <a:tblPr/>
              <a:tblGrid>
                <a:gridCol w="1028520"/>
                <a:gridCol w="1066680"/>
                <a:gridCol w="1219320"/>
                <a:gridCol w="1143000"/>
                <a:gridCol w="3543480"/>
              </a:tblGrid>
              <a:tr h="536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GP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ircuit  Dom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acke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om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ultiMedia Dom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mments/Issu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91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lease 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S 33.1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3.1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nnex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nnex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Adds support for Packet Domain (i.e., GPRS). Taken from GPRS LI architecture and capabilitie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91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lease 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S 33.1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4.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nnex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nnex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4480" indent="-11448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Primary impact on the access to correlate and coordinate circuit-mode IRI from the server and content from the media gateway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91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lease 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S 33.1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5.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nnex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nnex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GP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S 33.1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Support needed for Multi-Media services via CSCF. TS 33.107 addresses Access-DF (X)  interfaces. Impacts ETSI HI interface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1049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TS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July ’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July ’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B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Delivery of Real Time MultiMedia services via HI interfaces needed. </a:t>
                      </a:r>
                      <a:r>
                        <a:rPr b="0" i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re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 </a:t>
                      </a:r>
                      <a:r>
                        <a:rPr b="1" i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FTP, ROSE, and TCP/IP suitable for delivery of real-time communication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Reporting SIP Call/Session IRI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94" name=""/>
          <p:cNvSpPr/>
          <p:nvPr/>
        </p:nvSpPr>
        <p:spPr>
          <a:xfrm>
            <a:off x="2577600" y="380880"/>
            <a:ext cx="3987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Summ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LI Capabilities for UMTS Rele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95" name=""/>
          <p:cNvGraphicFramePr/>
          <p:nvPr/>
        </p:nvGraphicFramePr>
        <p:xfrm>
          <a:off x="457200" y="1447920"/>
          <a:ext cx="8229600" cy="4276440"/>
        </p:xfrm>
        <a:graphic>
          <a:graphicData uri="http://schemas.openxmlformats.org/drawingml/2006/table">
            <a:tbl>
              <a:tblPr/>
              <a:tblGrid>
                <a:gridCol w="1130040"/>
                <a:gridCol w="1403640"/>
                <a:gridCol w="1504800"/>
                <a:gridCol w="1981080"/>
                <a:gridCol w="2210040"/>
              </a:tblGrid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ircuit  Dom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acke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om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ultiMedia IP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om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mments/Issu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720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TS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nnex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2 - Annex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[</a:t>
                      </a:r>
                      <a:r>
                        <a:rPr b="1" lang="en-US" sz="1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GPRS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vents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B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ontent delivery (QOS, transpor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Reporting I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915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GP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[GSM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2 - Annex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[</a:t>
                      </a:r>
                      <a:r>
                        <a:rPr b="1" lang="en-US" sz="1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GPRS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vents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-3: 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Statement on Q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-2: </a:t>
                      </a:r>
                      <a:r>
                        <a:rPr b="1" lang="en-US" sz="1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SIP signal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4480" indent="-11448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ontent deliver (QOS, transpor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4480" indent="-11448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oordinating CSCF services (IRI) with content @ GSN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71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1-T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LE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J-STD-0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CC: circui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DC: IDI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J-STD-0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CC: packe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DC: 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not address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not  address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ontent delivery (QOS/transpor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Reporting  C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726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U.S. J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LI Repo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DC: A.1.3 GP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from T1P1/2000-99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[</a:t>
                      </a:r>
                      <a:r>
                        <a:rPr b="1" lang="en-US" sz="1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GPRS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vents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DC: A.1.1.1 Reporting CA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from  T1P1/2000-99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SIP signaling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Pending FCC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5920" indent="-115920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Report and Ord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699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Commona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Fundamental differences in ETSI and T1-TIA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CC: based on packe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DC: </a:t>
                      </a:r>
                      <a:r>
                        <a:rPr b="1" lang="en-US" sz="1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GPRS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ev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CC: not address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DC: </a:t>
                      </a:r>
                      <a:r>
                        <a:rPr b="1" lang="en-US" sz="1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SIP signal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ontent delivery  (QOS/transport issu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IRI/CRI Report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96" name=""/>
          <p:cNvSpPr/>
          <p:nvPr/>
        </p:nvSpPr>
        <p:spPr>
          <a:xfrm>
            <a:off x="2673360" y="380880"/>
            <a:ext cx="379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UMTS LI Capabilities f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3GPP/ETSI and T1-TIA CAL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"/>
          <p:cNvSpPr/>
          <p:nvPr/>
        </p:nvSpPr>
        <p:spPr>
          <a:xfrm>
            <a:off x="2128320" y="1752480"/>
            <a:ext cx="4444920" cy="30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Times New Roman"/>
              </a:rPr>
              <a:t>The End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3G UMTS LI Capab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1P1.SA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pril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"/>
          <p:cNvSpPr/>
          <p:nvPr/>
        </p:nvSpPr>
        <p:spPr>
          <a:xfrm>
            <a:off x="1823400" y="1981080"/>
            <a:ext cx="5444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UMTS Release 9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acket Domai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LI Architecture and Capab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914400" y="342900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UTR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1981800" y="2819520"/>
            <a:ext cx="32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2974320" y="3809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3582360" y="4648320"/>
            <a:ext cx="38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1066680" y="5232240"/>
            <a:ext cx="68580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1066680" y="546084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1830600" y="5105520"/>
            <a:ext cx="766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gn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f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3708720" y="409680"/>
            <a:ext cx="172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99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acket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1374120" y="1295280"/>
            <a:ext cx="201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Add Packet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5411880" y="464832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4345920" y="3809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1828800" y="3657600"/>
            <a:ext cx="83808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2438280" y="4419720"/>
            <a:ext cx="7621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3276720" y="457200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4267080" y="4419720"/>
            <a:ext cx="8384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G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2819520" y="2666880"/>
            <a:ext cx="1066680" cy="91440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 flipH="1">
            <a:off x="3962160" y="2743200"/>
            <a:ext cx="990360" cy="83808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3962520" y="3581280"/>
            <a:ext cx="685800" cy="7621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 flipH="1">
            <a:off x="2971800" y="3581280"/>
            <a:ext cx="914400" cy="7621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5867280" y="4191120"/>
            <a:ext cx="160020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1830600" y="411480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5181480" y="457200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3505320" y="3429000"/>
            <a:ext cx="8380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HL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 flipV="1">
            <a:off x="1828800" y="2666880"/>
            <a:ext cx="83808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2590920" y="2209680"/>
            <a:ext cx="8380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3505320" y="2514600"/>
            <a:ext cx="1218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4495680" y="2209680"/>
            <a:ext cx="91440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G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5486400" y="251460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6095880" y="2133720"/>
            <a:ext cx="160020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PSTN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Legacy, Ext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3430440" y="297180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4572000" y="2971800"/>
            <a:ext cx="293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820800" y="4430880"/>
            <a:ext cx="131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cc"/>
                </a:solidFill>
                <a:latin typeface="Times New Roman"/>
              </a:rPr>
              <a:t>Packet Doma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759600" y="220968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cc"/>
                </a:solidFill>
                <a:latin typeface="Times New Roman"/>
              </a:rPr>
              <a:t>Circuit-Switch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cc"/>
                </a:solidFill>
                <a:latin typeface="Times New Roman"/>
              </a:rPr>
              <a:t>Doma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"/>
          <p:cNvSpPr/>
          <p:nvPr/>
        </p:nvSpPr>
        <p:spPr>
          <a:xfrm>
            <a:off x="3708720" y="409680"/>
            <a:ext cx="172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99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acket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0" name=""/>
          <p:cNvGraphicFramePr/>
          <p:nvPr/>
        </p:nvGraphicFramePr>
        <p:xfrm>
          <a:off x="1828800" y="2209680"/>
          <a:ext cx="4829040" cy="274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2209680"/>
                    <a:ext cx="482904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2" name=""/>
          <p:cNvSpPr/>
          <p:nvPr/>
        </p:nvSpPr>
        <p:spPr>
          <a:xfrm>
            <a:off x="1077840" y="1371600"/>
            <a:ext cx="596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MSC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Architecture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Circuit-Switched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1974240" y="5105520"/>
            <a:ext cx="406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G MSC Circuit-Switched Intercept Config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6095880" y="3276720"/>
            <a:ext cx="1447920" cy="380880"/>
          </a:xfrm>
          <a:prstGeom prst="wedgeRoundRectCallout">
            <a:avLst>
              <a:gd name="adj1" fmla="val -47259"/>
              <a:gd name="adj2" fmla="val 164583"/>
              <a:gd name="adj3" fmla="val 16667"/>
            </a:avLst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99"/>
                </a:solidFill>
                <a:latin typeface="Times New Roman"/>
              </a:rPr>
              <a:t>GSM 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"/>
          <p:cNvSpPr/>
          <p:nvPr/>
        </p:nvSpPr>
        <p:spPr>
          <a:xfrm>
            <a:off x="685800" y="289548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1981080" y="3429000"/>
            <a:ext cx="0" cy="190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1143000" y="4114800"/>
            <a:ext cx="1676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1523880" y="5410080"/>
            <a:ext cx="83844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1257480" y="2666880"/>
            <a:ext cx="144756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SC, G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1447920" y="358128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1493640" y="48006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2135520" y="3581280"/>
            <a:ext cx="53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T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3708720" y="409680"/>
            <a:ext cx="172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99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acket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990360" y="2057400"/>
            <a:ext cx="198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MSC Content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4114800" y="289548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5486400" y="34290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4648320" y="4114800"/>
            <a:ext cx="167616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5029200" y="5410080"/>
            <a:ext cx="8380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4762440" y="2666880"/>
            <a:ext cx="144792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SC, G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4952880" y="358128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4998960" y="48006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4725360" y="2057400"/>
            <a:ext cx="163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MSC IRI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457200" y="274320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688680" y="2971800"/>
            <a:ext cx="54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3124080" y="274320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3886200" y="274320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4116600" y="2971800"/>
            <a:ext cx="646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1000800" y="1371600"/>
            <a:ext cx="590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MSC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Capabilitie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Circuit-Switched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2819520" y="4800600"/>
            <a:ext cx="1447560" cy="477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onten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ircuit-Switched TD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2135520" y="4800600"/>
            <a:ext cx="53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T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6705720" y="3962520"/>
            <a:ext cx="1752480" cy="20980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all Related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- Call Establish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Answ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upplementary Serv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Hando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Non-Call Related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Location Upd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ubscriber Controlled Inpu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5639760" y="480060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IS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"/>
          <p:cNvSpPr/>
          <p:nvPr/>
        </p:nvSpPr>
        <p:spPr>
          <a:xfrm>
            <a:off x="2209680" y="3048120"/>
            <a:ext cx="2895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3505320" y="3581280"/>
            <a:ext cx="0" cy="190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2666880" y="4267080"/>
            <a:ext cx="1676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3048120" y="556272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2781360" y="2819520"/>
            <a:ext cx="144792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2895480" y="3733920"/>
            <a:ext cx="5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2973240" y="495288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3708720" y="409680"/>
            <a:ext cx="172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99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acket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2514600" y="2133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3G MSC SMS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1981080" y="289548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2209680" y="32004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749160" y="1447920"/>
            <a:ext cx="764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MSC SMS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Architecture or Capabilitie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Circuit-Switched Doma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5067360" y="2819520"/>
            <a:ext cx="144792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M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ervice Cen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3736080" y="4952880"/>
            <a:ext cx="10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SMS 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"/>
          <p:cNvSpPr/>
          <p:nvPr/>
        </p:nvSpPr>
        <p:spPr>
          <a:xfrm>
            <a:off x="3708720" y="409680"/>
            <a:ext cx="172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99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acket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8" name="" descr=""/>
          <p:cNvPicPr/>
          <p:nvPr/>
        </p:nvPicPr>
        <p:blipFill>
          <a:blip r:embed="rId1"/>
          <a:stretch/>
        </p:blipFill>
        <p:spPr>
          <a:xfrm>
            <a:off x="1828800" y="2209680"/>
            <a:ext cx="4829040" cy="2743200"/>
          </a:xfrm>
          <a:prstGeom prst="rect">
            <a:avLst/>
          </a:prstGeom>
          <a:ln w="0">
            <a:noFill/>
          </a:ln>
        </p:spPr>
      </p:pic>
      <p:sp>
        <p:nvSpPr>
          <p:cNvPr id="1189" name=""/>
          <p:cNvSpPr/>
          <p:nvPr/>
        </p:nvSpPr>
        <p:spPr>
          <a:xfrm>
            <a:off x="1302840" y="1447920"/>
            <a:ext cx="540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ew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3G GSN Data LI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 Architecture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for R99 (Packet Doma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2126520" y="5105520"/>
            <a:ext cx="359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G Packet-Switched Intercept Config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6095880" y="3276720"/>
            <a:ext cx="1600200" cy="380880"/>
          </a:xfrm>
          <a:prstGeom prst="wedgeRoundRectCallout">
            <a:avLst>
              <a:gd name="adj1" fmla="val -47518"/>
              <a:gd name="adj2" fmla="val 164583"/>
              <a:gd name="adj3" fmla="val 16667"/>
            </a:avLst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99"/>
                </a:solidFill>
                <a:latin typeface="Times New Roman"/>
              </a:rPr>
              <a:t>GSN Data 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4T19:14:42Z</dcterms:created>
  <dc:creator>Ronald D. (Ron) Ryan</dc:creator>
  <dc:description/>
  <dc:language>en-US</dc:language>
  <cp:lastModifiedBy>Superuser</cp:lastModifiedBy>
  <dcterms:modified xsi:type="dcterms:W3CDTF">2001-09-03T10:57:12Z</dcterms:modified>
  <cp:revision>148</cp:revision>
  <dc:subject>Lawful Intercept</dc:subject>
  <dc:title>Overview of 3G UMTS LI Capabilities</dc:title>
</cp:coreProperties>
</file>